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F0F04-EECD-4FCC-BEE2-C55AD4DE152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30BDE-EFC4-4673-8C4F-B1AE74D400A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215C6-B872-4673-BF76-D4B0BD3A5F1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BF4F4-89AB-408C-B376-90C8244C513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BA257-B8AC-4A28-93A3-8E27486FCF9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CC7CC-91C9-4D56-9B12-A87F3DC4117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A936-156D-46C5-AF45-9C0C5F47E29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E72B4-6971-488F-933C-F713B4CA7E8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ackchannel: we perform a speech act we also have some “control goals”: the goals of  knowing if our interlocutor is following, understanding, if he is willing to do what we ask him, and so on. These goals correspond to what Goffman (198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alls “system constraint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A644C-E669-4362-B48F-D4F2A3FC15A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381F4-6DC3-4E80-9B66-9B83C646CD3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mportance and interrogative n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63BF3-C70C-4D32-9C11-45139A6A99D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hiara: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us savez qu’il y a encore dans les écoles des profs d’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économi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qui expliquent justement  qu’il n’y a pas d’autre voies que l’agriculture et le tourisme en Valais, ça ça va pas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E16A8-19DC-45A7-96B1-DC65A9D4E2F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FBD40-D9A6-4CE6-AB12-54B07D756F7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085E2-727C-44AA-9DBE-355164BB54F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5C28C-6A8F-432A-881E-DF61DD78BE7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C8F5E-6C37-49CD-8D34-A0065A76BFF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10A79-B852-414C-A33B-4F86D3E43F9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7EC41-FB3A-41CE-BCED-C59DA10FB09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BB28C-6AAA-4C15-84EB-BADB64858D4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A5926-A9E8-4E84-AE22-1DEB2DF56C1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360E8-98DE-4F6F-8667-104A2BDB546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55CA1-1C8B-4D5C-9FB1-876454D580E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DD7AC-397C-47F1-A6C2-F6CA28EC3BF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8BED-EB76-41AA-A4C2-DAB78465F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91A5-93AF-402A-BA3E-73590B836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3005-137D-42A5-B9EC-839F0F6FC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0124-86B4-4A4E-B708-E42C646FB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0DF3-5568-455E-A616-B265F0205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3741-C085-4B5B-A3CE-1B0D970A3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406D-5DF9-4DC2-834A-2B2A11A8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DE4B-9D05-4435-BFCB-159658C6A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90E6-78B8-4B58-8D26-C6A711A1C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1D20-EB13-4B08-843A-FEF15CDA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0EFB-256F-448C-BFE2-8576C7B7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937A-BDEA-4EAE-ADEB-D2BC6D34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BB2F2-3CD6-4541-A498-DF0429BB13B9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spnet.eu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Types of Nods.</a:t>
            </a:r>
            <a:br>
              <a:rPr sz="4000"/>
            </a:b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The polysemy of a social signal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240" y="4629240"/>
            <a:ext cx="6729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oggi I., D’Errico F. and Vincze 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Roma Tre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sspnetlogo.gif"/>
          <p:cNvPicPr/>
          <p:nvPr/>
        </p:nvPicPr>
        <p:blipFill>
          <a:blip r:embed="rId1"/>
          <a:stretch/>
        </p:blipFill>
        <p:spPr>
          <a:xfrm>
            <a:off x="5643720" y="428760"/>
            <a:ext cx="2000160" cy="1076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logo.gif"/>
          <p:cNvPicPr/>
          <p:nvPr/>
        </p:nvPicPr>
        <p:blipFill>
          <a:blip r:embed="rId2"/>
          <a:stretch/>
        </p:blipFill>
        <p:spPr>
          <a:xfrm>
            <a:off x="1214280" y="428760"/>
            <a:ext cx="1714680" cy="10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rpus of 72 political debates from 2004 to 2006 taken from “Canal 9” collected by Idiap of Martigny (</a:t>
            </a:r>
            <a:r>
              <a:rPr b="0" lang="it-IT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sspnet.eu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nalysis of 100 nods extrac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nitially without audi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then taking the transcription into accou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peech act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220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95280" y="260280"/>
          <a:ext cx="8534520" cy="4680000"/>
        </p:xfrm>
        <a:graphic>
          <a:graphicData uri="http://schemas.openxmlformats.org/drawingml/2006/table">
            <a:tbl>
              <a:tblPr/>
              <a:tblGrid>
                <a:gridCol w="473040"/>
                <a:gridCol w="765360"/>
                <a:gridCol w="663480"/>
                <a:gridCol w="1509840"/>
                <a:gridCol w="1649160"/>
                <a:gridCol w="1330560"/>
                <a:gridCol w="1071360"/>
                <a:gridCol w="107172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b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d 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al or Mea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: </a:t>
                      </a: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rictement, </a:t>
                      </a:r>
                      <a:r>
                        <a:rPr b="1" i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ien</a:t>
                      </a: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du to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strictly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hing at 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ves he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ward-downw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ze fixed to t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locu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want to stress th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pha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s mesures d’économie qui sont proposé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the economic measures that 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pos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wers head fast and brief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oks d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see what you me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ckchannel “I’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llowing you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Text Box 41"/>
          <p:cNvSpPr/>
          <p:nvPr/>
        </p:nvSpPr>
        <p:spPr>
          <a:xfrm>
            <a:off x="468360" y="530064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5. Analysis of head nod as to parameters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irection of movemen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(upward, downward, forward, backward) and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expressivity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amplitude, velocity, fluidity and repetition; Hartmann et al., 200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peaker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istener’s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Interlocu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Third Liste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"/>
          <p:cNvSpPr/>
          <p:nvPr/>
        </p:nvSpPr>
        <p:spPr>
          <a:xfrm>
            <a:off x="2916360" y="321300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5"/>
          <p:cNvSpPr/>
          <p:nvPr/>
        </p:nvSpPr>
        <p:spPr>
          <a:xfrm>
            <a:off x="2916360" y="3357720"/>
            <a:ext cx="1224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6659640" y="2421000"/>
            <a:ext cx="360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59640" y="3213000"/>
            <a:ext cx="4334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93080" y="1989000"/>
            <a:ext cx="1834920" cy="18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peaker continu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peaker    finis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nterlocutor’s nod (Speaker finish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95280" y="981000"/>
          <a:ext cx="8424720" cy="3641760"/>
        </p:xfrm>
        <a:graphic>
          <a:graphicData uri="http://schemas.openxmlformats.org/drawingml/2006/table">
            <a:tbl>
              <a:tblPr/>
              <a:tblGrid>
                <a:gridCol w="2089080"/>
                <a:gridCol w="1927440"/>
                <a:gridCol w="4408200"/>
              </a:tblGrid>
              <a:tr h="992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eaker’s Tu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gnal featu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7560">
                <a:tc>
                  <a:txBody>
                    <a:bodyPr lIns="90000" rIns="90000" tIns="36000" bIns="36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on factual belief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firm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 emphatic, often done in extenuated form by simply closing eyelids; </a:t>
                      </a:r>
                      <a:r>
                        <a:rPr b="0" lang="en-GB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repeated and rapid no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2040">
                <a:tc>
                  <a:txBody>
                    <a:bodyPr lIns="90000" rIns="90000" tIns="36000" bIns="36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sessmen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on opinio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re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ngle nod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downward, with head movement of </a:t>
                      </a:r>
                      <a:r>
                        <a:rPr b="0" i="1" lang="en-GB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high amplitude</a:t>
                      </a:r>
                      <a:r>
                        <a:rPr b="0" lang="en-GB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and tensio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ze generally directed to Speaker, sometimes with a slow closing of the eyelid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Social relations in the listener’s n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nfirmation  </a:t>
            </a:r>
            <a:r>
              <a:rPr b="0" lang="it-IT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9999"/>
                </a:solidFill>
                <a:latin typeface="Arial"/>
              </a:rPr>
              <a:t>S=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greement     </a:t>
            </a:r>
            <a:r>
              <a:rPr b="0" lang="it-IT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9999"/>
                </a:solidFill>
                <a:latin typeface="Arial"/>
              </a:rPr>
              <a:t>S=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pproval        </a:t>
            </a:r>
            <a:r>
              <a:rPr b="0" lang="it-IT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9999"/>
                </a:solidFill>
                <a:latin typeface="Arial"/>
              </a:rPr>
              <a:t>S=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ermission    </a:t>
            </a:r>
            <a:r>
              <a:rPr b="0" lang="it-IT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9999"/>
                </a:solidFill>
                <a:latin typeface="Arial"/>
              </a:rPr>
              <a:t>S&lt;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ubmission    </a:t>
            </a:r>
            <a:r>
              <a:rPr b="0" lang="it-IT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9999"/>
                </a:solidFill>
                <a:latin typeface="Arial"/>
              </a:rPr>
              <a:t>S&gt;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Thanking        </a:t>
            </a:r>
            <a:r>
              <a:rPr b="0" lang="it-IT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9999"/>
                </a:solidFill>
                <a:latin typeface="Arial"/>
              </a:rPr>
              <a:t>S&lt;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286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nterlocutor’s nod (Speaker 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42920" y="571680"/>
          <a:ext cx="8785080" cy="6321240"/>
        </p:xfrm>
        <a:graphic>
          <a:graphicData uri="http://schemas.openxmlformats.org/drawingml/2006/table">
            <a:tbl>
              <a:tblPr/>
              <a:tblGrid>
                <a:gridCol w="1368360"/>
                <a:gridCol w="3203640"/>
                <a:gridCol w="421308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Typ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Signal featu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eak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inu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B1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ckchannel “I understand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I confirm I am following you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Brief fast repeated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downward mov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B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ckchannel “I take note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ort, repeated nods, gaze to the speake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B3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ckchannel “I agree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ief fast repeated downward movement, with </a:t>
                      </a:r>
                      <a:r>
                        <a:rPr b="0" lang="en-GB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high amplitude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frowning and gazing to Speaker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B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ronic backchann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I do not agree at al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sibly asymmetrical (i.e. ironic) sm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B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ck-agreemen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repetition of previous stateme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sibly ironic smile, sometimes a sigh. Gaze to Speak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B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cessing Nod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I am reasoning on what the speaker means, planning my respons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peated brief and slow downward movement accompanied by </a:t>
                      </a:r>
                      <a:r>
                        <a:rPr b="0" lang="it-IT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frowin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5"/>
          <p:cNvSpPr/>
          <p:nvPr/>
        </p:nvSpPr>
        <p:spPr>
          <a:xfrm>
            <a:off x="684360" y="1477800"/>
            <a:ext cx="33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ack-channel “I understan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5580000" y="14778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ack-channel “I agre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agree.avi" descr=""/>
          <p:cNvPicPr/>
          <p:nvPr/>
        </p:nvPicPr>
        <p:blipFill>
          <a:blip r:embed="rId1"/>
          <a:stretch/>
        </p:blipFill>
        <p:spPr>
          <a:xfrm>
            <a:off x="4699080" y="2133720"/>
            <a:ext cx="4444920" cy="3557520"/>
          </a:xfrm>
          <a:prstGeom prst="rect">
            <a:avLst/>
          </a:prstGeom>
          <a:ln w="0">
            <a:noFill/>
          </a:ln>
        </p:spPr>
      </p:pic>
      <p:pic>
        <p:nvPicPr>
          <p:cNvPr id="86" name="confirm bis.avi" descr=""/>
          <p:cNvPicPr/>
          <p:nvPr/>
        </p:nvPicPr>
        <p:blipFill>
          <a:blip r:embed="rId2"/>
          <a:stretch/>
        </p:blipFill>
        <p:spPr>
          <a:xfrm>
            <a:off x="73080" y="2133720"/>
            <a:ext cx="442764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642960" y="849240"/>
          <a:ext cx="7929720" cy="5810400"/>
        </p:xfrm>
        <a:graphic>
          <a:graphicData uri="http://schemas.openxmlformats.org/drawingml/2006/table">
            <a:tbl>
              <a:tblPr/>
              <a:tblGrid>
                <a:gridCol w="2543040"/>
                <a:gridCol w="538668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gnal featu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 Empha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ad moves </a:t>
                      </a:r>
                      <a:r>
                        <a:rPr b="0" lang="en-GB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forward-downward over stressed syllables (of a key word emphasized)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ze to Interlocu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 Baton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peated head movements downward in correspondence of more than one stressed syllable (just to 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giving rhythm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 the discours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L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resses the items in a list, often parallel with enumerating gestu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1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.Interrogative no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zes at Int. with oblique head, slightly tilted sideway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yebrow frowning like in interrogative sentenc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Rhetorical interrogative no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d forward and repetead; Gaze toward the interlocu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Backchannel requ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ze toward the </a:t>
                      </a:r>
                      <a:r>
                        <a:rPr b="0" lang="en-GB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speaker stressing the key word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of the similar opinion but with </a:t>
                      </a:r>
                      <a:r>
                        <a:rPr b="0" lang="en-GB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eyelids and eyebrows rais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sometimes) accompanied by open hand palm up ges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Text Box 144"/>
          <p:cNvSpPr/>
          <p:nvPr/>
        </p:nvSpPr>
        <p:spPr>
          <a:xfrm>
            <a:off x="539640" y="26028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peaker’s Nod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7"/>
          <p:cNvSpPr/>
          <p:nvPr/>
        </p:nvSpPr>
        <p:spPr>
          <a:xfrm>
            <a:off x="1116000" y="69228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mpha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79280" y="5154120"/>
            <a:ext cx="4537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While saying: 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Je crois que 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vrai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ment aujourd’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hui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 on s’axe de 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plus 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en plus vers la réinser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I think that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a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ly to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a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people move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and more towards the re-insertion), FD moves his head downward – forward three times concomitant with the stressed syllab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5724360" y="765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ack-channel 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emphasis.avi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4300560" cy="3440160"/>
          </a:xfrm>
          <a:prstGeom prst="rect">
            <a:avLst/>
          </a:prstGeom>
          <a:ln w="0">
            <a:noFill/>
          </a:ln>
        </p:spPr>
      </p:pic>
      <p:pic>
        <p:nvPicPr>
          <p:cNvPr id="93" name="backchannelrequest.avi" descr=""/>
          <p:cNvPicPr/>
          <p:nvPr/>
        </p:nvPicPr>
        <p:blipFill>
          <a:blip r:embed="rId2"/>
          <a:stretch/>
        </p:blipFill>
        <p:spPr>
          <a:xfrm>
            <a:off x="4859280" y="1341360"/>
            <a:ext cx="4284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speaker nod agree.avi" descr=""/>
          <p:cNvPicPr/>
          <p:nvPr/>
        </p:nvPicPr>
        <p:blipFill>
          <a:blip r:embed="rId1"/>
          <a:stretch/>
        </p:blipFill>
        <p:spPr>
          <a:xfrm>
            <a:off x="1574640" y="1773360"/>
            <a:ext cx="5589720" cy="447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4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ssical studies on signal of agreement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: head nod, smile, mimicry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Bousmalis et al.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im: focus on </a:t>
            </a:r>
            <a:r>
              <a:rPr b="0" lang="it-IT" sz="3200" spc="-1" strike="noStrike" u="sng">
                <a:solidFill>
                  <a:srgbClr val="000000"/>
                </a:solidFill>
                <a:uFillTx/>
                <a:latin typeface="Arial"/>
              </a:rPr>
              <a:t>head nod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as polysemic signal making differences in features,  meanings and 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149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24000" y="115920"/>
          <a:ext cx="8496000" cy="6553080"/>
        </p:xfrm>
        <a:graphic>
          <a:graphicData uri="http://schemas.openxmlformats.org/drawingml/2006/table">
            <a:tbl>
              <a:tblPr/>
              <a:tblGrid>
                <a:gridCol w="1415880"/>
                <a:gridCol w="1416240"/>
                <a:gridCol w="2831760"/>
                <a:gridCol w="2832120"/>
              </a:tblGrid>
              <a:tr h="714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locutor’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ird Listener’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eaker’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quested confirm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firm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pha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ontaneous confirm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re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re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s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mi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rog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ank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ank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hetorical request for confirm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lf-confirm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lf-confirm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4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ckchann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firm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quest for positive backchann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re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539640" y="44280"/>
            <a:ext cx="784080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Next step will be the confirmation of the relation between the signals and the mea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reation of nod’s database in order to verify the corrispondence between the signal feature of the nod and the meaning (differentied by the role of the speaker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Thank you for your atten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2556000" y="1700280"/>
            <a:ext cx="4060800" cy="20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But..what do we agree about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On a propo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peech act of request, request of 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On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peech act of information with evaluation as a belief about whether and how some person, object or event  have a power to achieve some goal (Poggi et al, in pres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On opi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What is opin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ttitude and opinion in social psych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pinion is an evaluative assertion concerning questionable issue, showing features of instability, plasticity and specificity (Stoetzel, 1943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act vs. opi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ubjective belief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eta belief of possible different opinion of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evel of certain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bstraction: no empirical evidence, at most arg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ontic and assertive expressions(one should, it is right to…, i think, i consi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alues, goa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good, beautiful, right…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Agre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Mental state based on similarity of opin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t could be express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rectly: i ag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directly: congruent opinion with earlier 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on verbal agreement (Poggi, 200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Nod and persua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ncreasing agreement (Wells and Petty, 198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ncrease attitude change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Briñol and Petty, 2003)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Nod as sig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emantic core of nod: “acceptance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Darwin,187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Hadar (1983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od of sincrony: short duration and low amplit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od of anticipation: large amplitude and low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errato(2005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iving continuation (0.40mse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iving acceptance (0.6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stanlio e ollio short.avi" descr=""/>
          <p:cNvPicPr/>
          <p:nvPr/>
        </p:nvPicPr>
        <p:blipFill>
          <a:blip r:embed="rId1"/>
          <a:stretch/>
        </p:blipFill>
        <p:spPr>
          <a:xfrm>
            <a:off x="2286000" y="1539720"/>
            <a:ext cx="5381640" cy="40370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3"/>
          <p:cNvSpPr/>
          <p:nvPr/>
        </p:nvSpPr>
        <p:spPr>
          <a:xfrm>
            <a:off x="3635280" y="764280"/>
            <a:ext cx="46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liver Hardy’ nod”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703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Nod as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polysemic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sign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One signal </a:t>
            </a:r>
            <a:r>
              <a:rPr b="0" lang="it-IT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two or more mean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emantic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dditional elements of meaning through contex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evious (preceding speech a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multaneous (gaze, expressivity parameters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9T09:53:51Z</dcterms:created>
  <dc:creator>Francesca</dc:creator>
  <dc:description/>
  <dc:language>en-US</dc:language>
  <cp:lastModifiedBy>Francesca</cp:lastModifiedBy>
  <dcterms:modified xsi:type="dcterms:W3CDTF">2010-05-20T08:37:18Z</dcterms:modified>
  <cp:revision>103</cp:revision>
  <dc:subject/>
  <dc:title>Fare sì col capo. Polisemia di un segnale sociale</dc:title>
</cp:coreProperties>
</file>