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230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228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0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21120" y="0"/>
            <a:ext cx="3000240" cy="50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600" y="755640"/>
            <a:ext cx="504180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677a"/>
                </a:solidFill>
                <a:latin typeface="Gill Sans MT"/>
              </a:rPr>
              <a:t>Click to move the slide</a:t>
            </a: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578520"/>
            <a:ext cx="3000240" cy="505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21120" y="9578520"/>
            <a:ext cx="3000240" cy="505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CDE42C-70A6-4EBA-80A8-C95B88A5AAE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05B5B9-C5B4-4AA0-AE4D-F7D92C4D9F4D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6E3BC3-E151-4103-86B8-6AF2EB425346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AF7684-D7A5-4C82-B769-9648478B2114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C5C60B-8871-4696-A580-3D890976A55A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2117E2-54A4-4C6E-A517-910100E0DBAC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60B13BA-C74F-4966-A1D2-A6559E969FC7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4FF7E3-04CB-468F-8A0F-43B076A39412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182231-D615-4254-8026-B6C0E8FE768A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E75DBD-4A9C-4E89-A89C-C033B1415DE8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505A51-B382-49CC-AA36-75C0A13EBAFC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722E71-170A-44DF-BF6A-FF0D29C63DCB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4381DD-36C8-4F5E-B857-1D7F35B633D4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7B8821-1E26-4B65-B926-91B2BD8AC9AB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3BF490-6070-4C1C-A326-AD32CBB53D9E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97BB8F-84E0-44E9-B10B-56F1738FBB3C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FFA700-70B5-4840-9FA1-CCAED0F290FB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A9001E-ED4D-4371-943E-1802E99FF393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8C22DE-7724-4012-BA97-4F3205534BDD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7F5131A-E652-4CFA-B18E-CB9A06DAC325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21120" y="9578880"/>
            <a:ext cx="3000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06DEB6-40C0-484F-AA19-69E703512998}" type="slidenum">
              <a:rPr b="1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9960" y="755640"/>
            <a:ext cx="5041800" cy="3781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3760" y="4789440"/>
            <a:ext cx="507384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147B-1E71-49BC-BBA8-9F52969B3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20336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5ABA-B5B2-4E2F-AABC-8563EE071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88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7849-FC69-4D9C-85D8-CB78D29F1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324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324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7A15-DC03-461A-A4E5-F8E94AE9E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1066320"/>
            <a:ext cx="821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4855-2AC4-4AFE-A46A-C654ED8F8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88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420336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88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324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8120" y="213372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324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8120" y="4203360"/>
            <a:ext cx="26424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1615-20F3-4433-8E1A-623F8E8AA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E93E-E7BC-41D4-8927-F92080311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BE04-DC09-4A1D-AAB9-E456C5EEE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066320"/>
            <a:ext cx="821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F321-B903-4659-B206-2CB9587F3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0256-BE65-40E3-8F11-488E28137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880" y="420336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3CB6-CDC1-4833-B041-60CB62A3D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880" y="2133720"/>
            <a:ext cx="400500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203360"/>
            <a:ext cx="8207280" cy="188964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1AE0-633A-4018-881C-EC2024C89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9" descr="powerhead40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1428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677a"/>
                </a:solidFill>
                <a:latin typeface="Gill Sans MT"/>
              </a:rPr>
              <a:t>Click to edit the title text format</a:t>
            </a: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33960" y="6641640"/>
            <a:ext cx="19047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</a:t>
            </a:r>
            <a:fld id="{23AA9BCA-403C-4949-B13D-903F2EC449E9}" type="slidenum">
              <a:rPr b="0" lang="da-DK" sz="10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 of 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" name="Object 38"/>
          <p:cNvGraphicFramePr/>
          <p:nvPr/>
        </p:nvGraphicFramePr>
        <p:xfrm>
          <a:off x="8101080" y="549360"/>
          <a:ext cx="963720" cy="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549360"/>
                    <a:ext cx="96372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Object 41"/>
          <p:cNvGraphicFramePr/>
          <p:nvPr/>
        </p:nvGraphicFramePr>
        <p:xfrm>
          <a:off x="468360" y="333360"/>
          <a:ext cx="1655640" cy="3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33360"/>
                    <a:ext cx="16556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fib15_16 copy 2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Object 8"/>
          <p:cNvGraphicFramePr/>
          <p:nvPr/>
        </p:nvGraphicFramePr>
        <p:xfrm>
          <a:off x="468360" y="333360"/>
          <a:ext cx="16556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33360"/>
                    <a:ext cx="16556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677a"/>
                </a:solidFill>
                <a:latin typeface="Gill Sans MT"/>
              </a:rPr>
              <a:t>Click to edit the title text format</a:t>
            </a:r>
            <a:endParaRPr b="1" lang="en-US" sz="24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bIns="46800" anchor="t">
            <a:normAutofit/>
          </a:bodyPr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A Speech Corpus f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Dyslexic Reading Training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91920" y="3886200"/>
            <a:ext cx="8451720" cy="17524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Gill Sans MT"/>
              </a:rPr>
              <a:t>LREC 20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Jakob Schou Pedersen and Lars Bo Lars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Multimedia Information and Signal Processing se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Aalborg University – Denmark.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9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MicrophonePlugs_grayOverlay"/>
          <p:cNvPicPr/>
          <p:nvPr/>
        </p:nvPicPr>
        <p:blipFill>
          <a:blip r:embed="rId1"/>
          <a:srcRect l="0" t="6563" r="17185" b="0"/>
          <a:stretch/>
        </p:blipFill>
        <p:spPr>
          <a:xfrm>
            <a:off x="-15840" y="919080"/>
            <a:ext cx="9159840" cy="5761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0" y="907920"/>
            <a:ext cx="9144000" cy="576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ample..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Corpus analyses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9640" y="2133720"/>
            <a:ext cx="8064720" cy="1942920"/>
          </a:xfrm>
          <a:prstGeom prst="rect">
            <a:avLst/>
          </a:prstGeom>
          <a:solidFill>
            <a:srgbClr val="ccccff">
              <a:alpha val="77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000000"/>
                </a:solidFill>
                <a:latin typeface="Arial"/>
              </a:rPr>
              <a:t>..”Man kan ikke længere bare stille sig op og sige, at disse produkter er gode. Der er ikke en piedestal med det endegyldige svar, fortæller Thomas Roland”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932360" y="4084560"/>
            <a:ext cx="3672000" cy="216000"/>
          </a:xfrm>
          <a:prstGeom prst="rect">
            <a:avLst/>
          </a:prstGeom>
          <a:solidFill>
            <a:srgbClr val="ffffff">
              <a:alpha val="77000"/>
            </a:srgbClr>
          </a:solidFill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</a:rPr>
              <a:t>Male, 34 years old – severely dyslexi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adingExample.wav" descr=""/>
          <p:cNvPicPr/>
          <p:nvPr/>
        </p:nvPicPr>
        <p:blipFill>
          <a:blip r:embed="rId2"/>
          <a:stretch/>
        </p:blipFill>
        <p:spPr>
          <a:xfrm>
            <a:off x="8267760" y="3714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66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9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MicrophonePlugs_grayOverlay"/>
          <p:cNvPicPr/>
          <p:nvPr/>
        </p:nvPicPr>
        <p:blipFill>
          <a:blip r:embed="rId1"/>
          <a:srcRect l="0" t="6563" r="17185" b="0"/>
          <a:stretch/>
        </p:blipFill>
        <p:spPr>
          <a:xfrm>
            <a:off x="-15840" y="919080"/>
            <a:ext cx="9159840" cy="5761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0" y="907920"/>
            <a:ext cx="9144000" cy="576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28840"/>
            <a:ext cx="8207280" cy="45352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hievable ASR accuracy with this type of input is unknown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ducting proof-of-concept ASR experiments using the generated speech corpus as testing materi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MU Sphinx IV open source speech recognition eng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0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8715240" cy="396252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cue detection based on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ual deco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oodness Of Pronunciation (GOP)-scoring , </a:t>
            </a: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[Witt, 1999]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ced alignment compared with free phone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pic>
        <p:nvPicPr>
          <p:cNvPr id="167" name="Picture 8" descr="MR_RecognizerSetup"/>
          <p:cNvPicPr/>
          <p:nvPr/>
        </p:nvPicPr>
        <p:blipFill>
          <a:blip r:embed="rId1"/>
          <a:stretch/>
        </p:blipFill>
        <p:spPr>
          <a:xfrm>
            <a:off x="1332000" y="3379680"/>
            <a:ext cx="6162480" cy="2835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6516720" y="4025880"/>
            <a:ext cx="934920" cy="504720"/>
          </a:xfrm>
          <a:prstGeom prst="rect">
            <a:avLst/>
          </a:prstGeom>
          <a:noFill/>
          <a:ln w="28440">
            <a:solidFill>
              <a:srgbClr val="ff9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7511040" y="56134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[Witt, 1999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1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500120"/>
            <a:ext cx="8207280" cy="450072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ance and foc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adout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: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rec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jection &amp; FA: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cept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MDR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iscu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etec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ate = CR / (CR+F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Gill Sans MT"/>
              </a:rPr>
              <a:t>Correc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adout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: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rec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ceptance &amp; FR: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j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FAR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al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lar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ate = FR / (CA+F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306360" y="5357880"/>
            <a:ext cx="8501040" cy="82548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ducing the FAR – even though this decreases the MDR…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tiv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2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1499760"/>
            <a:ext cx="8207280" cy="335772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rformance results (15 dyslexic user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71680" y="2428920"/>
          <a:ext cx="7929360" cy="2163600"/>
        </p:xfrm>
        <a:graphic>
          <a:graphicData uri="http://schemas.openxmlformats.org/drawingml/2006/table">
            <a:tbl>
              <a:tblPr/>
              <a:tblGrid>
                <a:gridCol w="2071440"/>
                <a:gridCol w="1785960"/>
                <a:gridCol w="407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tteran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S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erformanc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Gill Sans MT"/>
                        </a:rPr>
                        <a:t>Incorre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R: 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: 6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DR = CR/(CR+FA) = 50.07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Gill Sans MT"/>
                        </a:rPr>
                        <a:t>Corre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: 85.16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: 4.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  = FR/(FR+CA)  = 8.77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80" name="TextBox 8"/>
          <p:cNvSpPr/>
          <p:nvPr/>
        </p:nvSpPr>
        <p:spPr>
          <a:xfrm>
            <a:off x="306360" y="5072040"/>
            <a:ext cx="8501040" cy="119124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other word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% of the correctly read words are rejected by mistake, and 50% of the misread words are accepted by mistake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3571920" y="5802480"/>
            <a:ext cx="3184560" cy="459720"/>
          </a:xfrm>
          <a:prstGeom prst="rect">
            <a:avLst/>
          </a:prstGeom>
          <a:solidFill>
            <a:srgbClr val="b3b3b3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Arial"/>
              </a:rPr>
              <a:t>Is this a probl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3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499760"/>
            <a:ext cx="8207280" cy="40719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 fontScale="91000"/>
          </a:bodyPr>
          <a:p>
            <a:pPr lvl="2" marL="1040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-Not necessarily.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yslexic users may actually not even explicitly notice this imperfe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usability evaluation (n=16) of the setup was conducted to investigate this.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4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Exploitat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Exploitation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stopWatch"/>
          <p:cNvPicPr/>
          <p:nvPr/>
        </p:nvPicPr>
        <p:blipFill>
          <a:blip r:embed="rId1"/>
          <a:srcRect l="23340" t="2205" r="21687" b="0"/>
          <a:stretch/>
        </p:blipFill>
        <p:spPr>
          <a:xfrm>
            <a:off x="6659640" y="3500280"/>
            <a:ext cx="2376360" cy="31705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300720" y="2852640"/>
            <a:ext cx="2843280" cy="381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99760"/>
            <a:ext cx="8207280" cy="40719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 fontScale="86000"/>
          </a:bodyPr>
          <a:p>
            <a:pPr lvl="2" marL="982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sability Eval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% of the subjects expresse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 unconditional belief in the fairness(!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% envisioned that they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ould use a system like thi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reading training purpos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logo350"/>
          <p:cNvPicPr/>
          <p:nvPr/>
        </p:nvPicPr>
        <p:blipFill>
          <a:blip r:embed="rId1"/>
          <a:srcRect l="9403" t="0" r="8820" b="0"/>
          <a:stretch/>
        </p:blipFill>
        <p:spPr>
          <a:xfrm>
            <a:off x="6480000" y="4437000"/>
            <a:ext cx="2664000" cy="216864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5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Conclus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360" y="2133720"/>
            <a:ext cx="820764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speech corpus of Danish dyslexic speech has been establish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otated at word level in several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st important characteristics of thi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rge amount of regr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normal correlation betwee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d skips and length of the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Exploitatio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logo350"/>
          <p:cNvPicPr/>
          <p:nvPr/>
        </p:nvPicPr>
        <p:blipFill>
          <a:blip r:embed="rId1"/>
          <a:srcRect l="9403" t="0" r="8820" b="0"/>
          <a:stretch/>
        </p:blipFill>
        <p:spPr>
          <a:xfrm>
            <a:off x="6480000" y="4437000"/>
            <a:ext cx="2664000" cy="216864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6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Conclusio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6360" y="2133720"/>
            <a:ext cx="820764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speech corpus has been used in a the configuration of a proof-of-concept reading training setup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Relatively limited perform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ut accepted by th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dyslexic us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Exploitatio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7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Future work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6360" y="2133720"/>
            <a:ext cx="820764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mprovements in ASR performance are currently being pursu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commercial version of the reading trainer is under conside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Exploitatio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1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issingPiece4_dimmed40%_fuzzyBorderSplit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07280" cy="396216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Dyslexi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rpus record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Database desig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rpus analys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Exploit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nclusion and future work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Outline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ill Sans MT"/>
              </a:rPr>
              <a:t>Thank you for your attention.</a:t>
            </a:r>
            <a:endParaRPr b="1" lang="en-US" sz="5400" spc="-1" strike="noStrike">
              <a:solidFill>
                <a:srgbClr val="4b677a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Slide 2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1066320"/>
            <a:ext cx="32893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Dyslexia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pic>
        <p:nvPicPr>
          <p:cNvPr id="101" name="Picture 5" descr="explodingWords_fuzzyBorder"/>
          <p:cNvPicPr/>
          <p:nvPr/>
        </p:nvPicPr>
        <p:blipFill>
          <a:blip r:embed="rId1"/>
          <a:stretch/>
        </p:blipFill>
        <p:spPr>
          <a:xfrm>
            <a:off x="324000" y="1719360"/>
            <a:ext cx="6408720" cy="4805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2"/>
          <p:cNvSpPr/>
          <p:nvPr/>
        </p:nvSpPr>
        <p:spPr>
          <a:xfrm>
            <a:off x="6732720" y="1928880"/>
            <a:ext cx="2268360" cy="45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657480" y="1928880"/>
            <a:ext cx="24408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i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essing based 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w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nctu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ing up simila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ters/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/omission of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4"/>
              </a:buClr>
              <a:buSzPct val="12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dyslexiaInCountries2"/>
          <p:cNvPicPr/>
          <p:nvPr/>
        </p:nvPicPr>
        <p:blipFill>
          <a:blip r:embed="rId2"/>
          <a:stretch/>
        </p:blipFill>
        <p:spPr>
          <a:xfrm>
            <a:off x="281160" y="2997360"/>
            <a:ext cx="1987200" cy="2012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141480" y="6610320"/>
            <a:ext cx="70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Dyslexia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Corpus analyses 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0.25591 4.07407E-006 E">
                                      <p:cBhvr>
                                        <p:cTn id="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3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MicrophonePlugs_grayOverlay"/>
          <p:cNvPicPr/>
          <p:nvPr/>
        </p:nvPicPr>
        <p:blipFill>
          <a:blip r:embed="rId1"/>
          <a:srcRect l="0" t="6563" r="17185" b="0"/>
          <a:stretch/>
        </p:blipFill>
        <p:spPr>
          <a:xfrm>
            <a:off x="-15840" y="919080"/>
            <a:ext cx="9159840" cy="576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907920"/>
            <a:ext cx="9144000" cy="576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Corpus </a:t>
            </a:r>
            <a:r>
              <a:rPr b="1" lang="en-US" sz="3600" spc="-1" strike="noStrike">
                <a:solidFill>
                  <a:srgbClr val="4b677a"/>
                </a:solidFill>
                <a:latin typeface="Gill Sans MT"/>
              </a:rPr>
              <a:t>Recording (Danish speech)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93960"/>
            <a:ext cx="8207280" cy="45352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 fontScale="92000"/>
          </a:bodyPr>
          <a:p>
            <a:pPr marL="315360" indent="-3153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rding, and annotation,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mpt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ading in a silent environm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e-talking heads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ve format  (sample rate 22050 Hz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 subjects with different levels of dyslexia (’mild’ to ’severe’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 males, 5 females (average age 25 yea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xt material of increasing difficulty – 10 different tex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nt-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d-leng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d frequ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ne-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rpus recording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– Database design – Corpus analyses 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4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MicrophonePlugs_grayOverlay"/>
          <p:cNvPicPr/>
          <p:nvPr/>
        </p:nvPicPr>
        <p:blipFill>
          <a:blip r:embed="rId1"/>
          <a:srcRect l="0" t="6563" r="17185" b="0"/>
          <a:stretch/>
        </p:blipFill>
        <p:spPr>
          <a:xfrm>
            <a:off x="-15840" y="919080"/>
            <a:ext cx="9159840" cy="5761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907920"/>
            <a:ext cx="9144000" cy="576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Database Design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07280" cy="45352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notation at word-level using the open source tool ’Praat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layer approach, supporting links between connected audio events (i.e. between word substitutions and the words that were supposed to be rea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00080" y="4575240"/>
          <a:ext cx="7143840" cy="1854000"/>
        </p:xfrm>
        <a:graphic>
          <a:graphicData uri="http://schemas.openxmlformats.org/drawingml/2006/table">
            <a:tbl>
              <a:tblPr/>
              <a:tblGrid>
                <a:gridCol w="1757520"/>
                <a:gridCol w="5386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ay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hto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thographic annot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rror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ype of error (e.g. insertion, substitution, etc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mpt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rd intended to be read in case of erro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ming Event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mporal inconsistencies (i.e. jumps or pause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Database design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analyses 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5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MicrophonePlugs_grayOverlay"/>
          <p:cNvPicPr/>
          <p:nvPr/>
        </p:nvPicPr>
        <p:blipFill>
          <a:blip r:embed="rId1"/>
          <a:srcRect l="0" t="6563" r="17185" b="0"/>
          <a:stretch/>
        </p:blipFill>
        <p:spPr>
          <a:xfrm>
            <a:off x="-15840" y="919080"/>
            <a:ext cx="9159840" cy="5761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907920"/>
            <a:ext cx="9144000" cy="576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Corpus Analyses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65200"/>
            <a:ext cx="8207280" cy="50356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otal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pproximately 100 minutes of fully annotated speech (including silence and filled pau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7578 wor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gene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isreadings occur quite frequently (in average 21% of all words are misrea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is strongly negatively correlated with speaking rate (r=-0.84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peaking rate: 38.67 – 115 words/minu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verage 76.86 words/minu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rpus analyses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6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Corpus Analyses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760" y="1931760"/>
            <a:ext cx="8207280" cy="3538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equent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egress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and some progressio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8" name="Picture 6" descr="TimeJumps_preliminaryRecordings2_noGradient2"/>
          <p:cNvPicPr/>
          <p:nvPr/>
        </p:nvPicPr>
        <p:blipFill>
          <a:blip r:embed="rId1"/>
          <a:stretch/>
        </p:blipFill>
        <p:spPr>
          <a:xfrm>
            <a:off x="254160" y="2565360"/>
            <a:ext cx="5470200" cy="4060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5796000" y="1413000"/>
            <a:ext cx="3168720" cy="2376360"/>
          </a:xfrm>
          <a:prstGeom prst="rect">
            <a:avLst/>
          </a:prstGeom>
          <a:solidFill>
            <a:srgbClr val="ccccff">
              <a:alpha val="50000"/>
            </a:srgbClr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ular progressions appear to be positively correlated with word length (r=0.4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normal reading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ords are more likely to be skipped than larger ones(!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Brysbaert and Vitu, 1998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Symbols-Info-256x256"/>
          <p:cNvPicPr/>
          <p:nvPr/>
        </p:nvPicPr>
        <p:blipFill>
          <a:blip r:embed="rId2"/>
          <a:stretch/>
        </p:blipFill>
        <p:spPr>
          <a:xfrm>
            <a:off x="8172360" y="90972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rpus analyses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7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Corpus Analyses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6680" y="1941120"/>
            <a:ext cx="8207280" cy="41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ord leng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796000" y="1413000"/>
            <a:ext cx="3168720" cy="1295280"/>
          </a:xfrm>
          <a:prstGeom prst="rect">
            <a:avLst/>
          </a:prstGeom>
          <a:solidFill>
            <a:srgbClr val="ccccff">
              <a:alpha val="50000"/>
            </a:srgbClr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d lengths appear to be positively correlated with misreading frequency (r=0.8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Symbols-Info-256x256"/>
          <p:cNvPicPr/>
          <p:nvPr/>
        </p:nvPicPr>
        <p:blipFill>
          <a:blip r:embed="rId1"/>
          <a:stretch/>
        </p:blipFill>
        <p:spPr>
          <a:xfrm>
            <a:off x="8172360" y="90972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RelativeMisreadingsFrequencies6"/>
          <p:cNvPicPr/>
          <p:nvPr/>
        </p:nvPicPr>
        <p:blipFill>
          <a:blip r:embed="rId2"/>
          <a:stretch/>
        </p:blipFill>
        <p:spPr>
          <a:xfrm>
            <a:off x="34920" y="2565360"/>
            <a:ext cx="5470560" cy="3960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rpus analyses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934320" y="6642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Gill Sans MT"/>
              </a:rPr>
              <a:t>Slide 8 of 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4"/>
          <p:cNvSpPr/>
          <p:nvPr/>
        </p:nvSpPr>
        <p:spPr>
          <a:xfrm>
            <a:off x="142920" y="3059280"/>
            <a:ext cx="5500800" cy="1726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1066320"/>
            <a:ext cx="821844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b677a"/>
                </a:solidFill>
                <a:latin typeface="Gill Sans MT"/>
              </a:rPr>
              <a:t>Corpus Analyses</a:t>
            </a:r>
            <a:endParaRPr b="1" lang="en-US" sz="3600" spc="-1" strike="noStrike">
              <a:solidFill>
                <a:srgbClr val="4b677a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920" y="2133360"/>
            <a:ext cx="5500800" cy="2483280"/>
          </a:xfrm>
          <a:prstGeom prst="rect">
            <a:avLst/>
          </a:prstGeom>
          <a:noFill/>
          <a:ln w="0">
            <a:noFill/>
          </a:ln>
        </p:spPr>
        <p:txBody>
          <a:bodyPr lIns="36000" rIns="720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bnormal pau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yslexic readers with a mean age of 25 yea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96000" y="1413000"/>
            <a:ext cx="3168720" cy="4680000"/>
          </a:xfrm>
          <a:prstGeom prst="rect">
            <a:avLst/>
          </a:prstGeom>
          <a:solidFill>
            <a:srgbClr val="ccccff">
              <a:alpha val="50000"/>
            </a:srgbClr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pause length for dyslexics was found to be substantially larger tha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mal read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Non-dyslexic young adult reader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Brubaker, 1972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Non-dyslexic readers with a mean age of 28.1 year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Horii and Ramig, 1987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Elderly non-dyslexic rea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Hammen and Yorkston, 1996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ymbols-Info-256x256"/>
          <p:cNvPicPr/>
          <p:nvPr/>
        </p:nvPicPr>
        <p:blipFill>
          <a:blip r:embed="rId1"/>
          <a:stretch/>
        </p:blipFill>
        <p:spPr>
          <a:xfrm>
            <a:off x="8172360" y="909720"/>
            <a:ext cx="784440" cy="78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Object 97"/>
              <p:cNvSpPr txBox="1"/>
              <p:nvPr/>
            </p:nvSpPr>
            <p:spPr>
              <a:xfrm>
                <a:off x="5940360" y="3281400"/>
                <a:ext cx="28576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 seconds,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 seco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8"/>
              <p:cNvSpPr txBox="1"/>
              <p:nvPr/>
            </p:nvSpPr>
            <p:spPr>
              <a:xfrm>
                <a:off x="5940360" y="4506840"/>
                <a:ext cx="28576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 seconds,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 seco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9"/>
              <p:cNvSpPr txBox="1"/>
              <p:nvPr/>
            </p:nvSpPr>
            <p:spPr>
              <a:xfrm>
                <a:off x="5934240" y="5551560"/>
                <a:ext cx="285732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 seconds,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 seco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"/>
              <p:cNvSpPr txBox="1"/>
              <p:nvPr/>
            </p:nvSpPr>
            <p:spPr>
              <a:xfrm>
                <a:off x="142920" y="4118040"/>
                <a:ext cx="5559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onds,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 secon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41120" y="6610320"/>
            <a:ext cx="70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yslexia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Corpus recording – Database design – </a:t>
            </a:r>
            <a:r>
              <a:rPr b="1" lang="en-US" sz="1200" spc="-1" strike="noStrike">
                <a:solidFill>
                  <a:srgbClr val="ff9934"/>
                </a:solidFill>
                <a:latin typeface="Arial"/>
              </a:rPr>
              <a:t>Corpus analyses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– Exploitation – Conclu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42:10Z</dcterms:created>
  <dc:creator>Jakob S. Pedersen</dc:creator>
  <dc:description/>
  <dc:language>en-US</dc:language>
  <cp:lastModifiedBy>jsp</cp:lastModifiedBy>
  <dcterms:modified xsi:type="dcterms:W3CDTF">2010-05-19T15:28:28Z</dcterms:modified>
  <cp:revision>491</cp:revision>
  <dc:subject/>
  <dc:title>Multimodal Reading Training for Dyslexics</dc:title>
</cp:coreProperties>
</file>