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B48A-E96E-469A-BC92-2C5D917B1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
        <p:nvSpPr>
          <p:cNvPr id="42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9C9F-6EA6-4B4C-A9BE-B090F6792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741B-4F82-408B-AE59-DB72D9B2C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valuation context: purpose, process, users and uses,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tage, it seems that we are not satisfied with the evaluation cri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problems of such criter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8B1D-71AD-440A-9F4D-5AF1ABC5D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valuation context: purpose, process, users and uses,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tage, it seems that we are not satisfied with the evaluation cri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the problems of such criteri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ric Scr improves </a:t>
            </a:r>
            <a:r>
              <a:rPr b="0" lang="en-US" sz="1600" spc="-1" strike="noStrike">
                <a:solidFill>
                  <a:srgbClr val="000000"/>
                </a:solidFill>
                <a:latin typeface="Wingdings"/>
                <a:ea typeface="Wingdings"/>
              </a:rPr>
              <a:t></a:t>
            </a:r>
            <a:r>
              <a:rPr b="0" lang="en-US" sz="1600" spc="-1" strike="noStrike">
                <a:solidFill>
                  <a:srgbClr val="000000"/>
                </a:solidFill>
                <a:latin typeface="Arial"/>
              </a:rPr>
              <a:t> MT quality improve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n absolute golden-standard, a minor raise of BLEU score is regarded as an improvement</a:t>
            </a:r>
            <a:endParaRPr b="0" lang="en-US" sz="1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we look into their translation, most likely we won’t find any observable difference</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remains unclear whether optimizing MT systems towards such quality function which contains lots of uncertainty can lead to a real performance gain</a:t>
            </a:r>
            <a:endParaRPr b="0" lang="en-US" sz="16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6653-4324-4604-8958-2D177548F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F4E2-B83C-41ED-8969-AED3157F9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human evaluation is often regarded as inconsistent and subjective, we (metric developers) try to tune our metrics to simulate it in order to prove the metric to be reliable and objec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e interpret when something is theoretically (intuitively?) better but empirically no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A9A0-29C9-4928-B011-B5042E0FD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human evaluation is often regarded as inconsistent and subjective, we (metric developers) try to tune our metrics to simulate it in order to prove the metric to be reliable and objectiv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e interpret when something is theoretically (intuitively?) better but empirically no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0725-FC34-4778-879B-951196353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human evaluation is often regarded as inconsistent and subjective, we (metric developers) try to tune our metrics to simulate it in order to prove the metric to be reliable and obj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e interpret when something is theoretically (intuitively?) better but empirically no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FC968-E172-4CFF-A951-5334CC943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E5E0-EB2C-4946-AE9E-741E77244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2AEA6-FBC9-4AE5-8508-699423943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BA2C8-3490-4DF2-BD33-F46358B4E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916E3-E324-4C0A-8A03-658CC4221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1C33B-E9F7-4898-82BF-ACDDD1A40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4CE00-80BE-49C7-99A1-3A5B6BC9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52859-7D7A-4BCF-B951-446BCE45E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8E335-C961-478B-A737-5744F2B29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B9BCE-1EED-4844-95EB-D8110D487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9BB6A-9793-4908-B015-2D7B9232D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9631-4A5A-4367-8F31-5D7991941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E44FF-2B39-4A4A-8BC0-A63B0227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20D40-6E82-42C2-B848-D6ECB455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8D825-ECEA-4D48-B09B-AF9E26BD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EB479-428C-40A6-ACB2-D40DAB876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15DFC-FF0E-436D-8BAE-298A32199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148F3E-B54D-4694-8B1D-78D2FF8079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BBB96-9991-49ED-969C-9F89A57EBC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C91D34-24FF-4A68-A578-98D2D20D2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1D694F-1B4C-4BAC-B013-E860020BB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EF365-DA78-427E-B1B7-F3383392E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7F4B3-1912-4EFB-9685-6E38203C5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95FCDC-B442-4A54-ACDE-2A7A080C9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0F144-31F3-4F40-8BA2-ABC28A84E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D43CE-95ED-4616-94B5-C2F4D2370A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3E2AD-0D6F-4549-9EF7-368500FFE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96CA4-97AE-4236-AF29-3110A8A38C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30B04-83F3-434F-B688-4E271798AA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CD6667-0DE6-4098-A64D-709A5CC21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548871-88CC-422B-A8B4-8AF8B93C2E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BF4DA-66A9-44EC-BDC0-D3D4D61FE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212A0-DF59-430E-B27A-3E7C8DFFF2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90B2-3C43-404F-9142-3517093DB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6D1DB-EE41-473B-8206-5A6FC1C21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9FABED-B051-4888-A3DD-85E05A145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D7904-0EE4-4CA7-A064-EFC0AED4C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3D3E8F-46F1-41C9-8DA3-DF8821A2E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97DE4-6051-4F7E-8D4F-81831B707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D2293-4390-46BF-9E09-089F0F443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76BA6-B46B-4263-827F-4AE10DB25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ABCF82-DC3B-45A0-A714-B8AED1C82E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68B46-1EA4-40F3-801E-2E3120996D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230AAE-69DB-4D9F-9193-0E4A5EB66D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E647-445C-4DEC-A81C-46A9E1A9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CB094-1760-48EF-AC8A-D5CA0C502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DDBAF-C42B-4B57-AF0D-4F057DF22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8EDA70-7A3D-49BE-895B-5AD4D3DA8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05267F-E7F5-481B-BE24-89CFA59CF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091968-41FF-41E6-AB45-0318C0AD5A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DE6B1-49AB-47F1-ADAE-E4F4E6CD1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B49C3-FDB4-4095-923A-284D35A09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1B3B5-5FF0-4BEB-9B52-F097144B4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FBB9A-5F1E-4C67-9DAC-CF06C7805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EF1A46-E4F8-4B51-9B3C-B7604FB9C8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2041A-A617-44AC-B041-025CFEB3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674F56-0931-4589-AFEC-2A51B39A6B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8B03BA-1CDB-4F44-9AA7-38590EF55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037E3-551B-4636-8248-65A3217DC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CA1B0-FFDC-44E8-B0EC-F0F0005A4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54119-0766-4B8B-973A-E09014AC0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6303CF-A7BB-4C58-B256-00D8168BA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1FF30-095A-4EAF-84F0-7FCBE242C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FA19D-BF57-439A-9FF1-0E6F0B902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156D20-3F05-4CEB-8BFC-672E0BC2E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904DCB-4A59-434E-86FB-603ED995C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14EA4-37A2-4326-90DE-CFD3A7FD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E85055-6C0C-4C74-823E-365C1433B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5B8F35-2EC0-4F50-A625-C324E13FCE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53ECA3-8FBF-4A1D-9A5B-7078631D03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9CE431-1D68-4215-8BC7-C6522D826F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949FA6-E318-44B2-B46C-5EB9D4010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85C96-AF50-4E37-AE3D-74466B376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B9E82-6364-4EC6-82EC-91D5E100AC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DFD5D-B367-4324-B720-38BB94C5C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78888-CFDF-4DE7-B7C5-895E24F92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E4C3B-B2D5-455C-BC4D-FB68BDFF5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FE34-3DA4-495E-B2BD-600D2328F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E7F8C-6573-4BC6-B0BE-53E6B9816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1343F1-13D5-4CE1-BA53-92948F5F0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4F06D-8779-4E19-BE3F-D66496A9B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753B54-E098-4A22-9980-1E841CE066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0F20A4-866E-4CD4-90D0-07FC8E9B57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CBC411-12A8-43A6-BD12-3E9C372627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575228-EF14-4AC2-A5D2-1BF25E0965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6EA139-67D8-4171-A3D8-DBF18872F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5293EC-4671-47B8-B5B9-B26B4A897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0D6EC-464D-4AB6-AC67-0ED9880EF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AA17F-90AB-497B-86B3-7649825FB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FCDF16-A072-446E-A6E1-CF8C527D7A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630FB-1B22-42F5-9C5B-8748C5D2C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A642F-D080-4212-A1A3-9EAFA799E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F46DD-4361-401F-8902-9607F101D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30D459-42ED-4190-A67D-43106A71E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D3496C-A335-4BBA-8EBB-3DE346FCC7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FCD38-607C-46F7-8503-28F0A627A3E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301B-C0E0-4676-9F6C-DBD31808909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接點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接點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等腰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矩形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065A-E06F-46FA-BFD5-91B69DE86D6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矩形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B81A-2F1D-443B-81C4-F1B8BE1E56E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接點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接點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等腰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等腰三角形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64A0-7FDA-4630-B786-459C344313F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接點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等腰三角形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A2BA-4EB2-4915-87DF-8823FF4BB7B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接點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接點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等腰三角形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6A09-6914-4483-82CA-9FCEE6E5FCE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接點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等腰三角形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150E-E921-4B0A-BFD7-2B3725BFD73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接點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等腰三角形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接點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9BB7-BD79-412D-9BB1-EAA743D3E93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T Evaluation: </a:t>
            </a:r>
            <a:br>
              <a:rPr sz="3200"/>
            </a:br>
            <a:r>
              <a:rPr b="0" lang="en-US" sz="3200" spc="-1" strike="noStrike">
                <a:solidFill>
                  <a:srgbClr val="000000"/>
                </a:solidFill>
                <a:latin typeface="Bookman Old Style"/>
              </a:rPr>
              <a:t>On Selection of Quality Criteria</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ea typeface="標楷體"/>
              </a:rPr>
              <a:t>How can we be sure that we are on the right track?</a:t>
            </a:r>
            <a:endParaRPr b="0" lang="en-US" sz="2000" spc="-1" strike="noStrike">
              <a:solidFill>
                <a:srgbClr val="000000"/>
              </a:solidFill>
              <a:latin typeface="Gill Sans MT"/>
            </a:endParaRPr>
          </a:p>
        </p:txBody>
      </p:sp>
      <p:sp>
        <p:nvSpPr>
          <p:cNvPr id="361" name="Rectangle 3"/>
          <p:cNvSpPr/>
          <p:nvPr/>
        </p:nvSpPr>
        <p:spPr>
          <a:xfrm>
            <a:off x="1357200" y="6000840"/>
            <a:ext cx="6858000" cy="5331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ea typeface="標楷體"/>
              </a:rPr>
              <a:t>Billy TM Wong, City University of Hong Kong</a:t>
            </a:r>
            <a:endParaRPr b="0" lang="en-US" sz="1400" spc="-1" strike="noStrike">
              <a:solidFill>
                <a:srgbClr val="000000"/>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ea typeface="標楷體"/>
              </a:rPr>
              <a:t>19</a:t>
            </a:r>
            <a:r>
              <a:rPr b="0" lang="en-US" sz="1400" spc="-1" strike="noStrike" baseline="30000">
                <a:solidFill>
                  <a:srgbClr val="464653"/>
                </a:solidFill>
                <a:latin typeface="Bookman Old Style"/>
                <a:ea typeface="標楷體"/>
              </a:rPr>
              <a:t>th</a:t>
            </a:r>
            <a:r>
              <a:rPr b="0" lang="en-US" sz="1400" spc="-1" strike="noStrike">
                <a:solidFill>
                  <a:srgbClr val="464653"/>
                </a:solidFill>
                <a:latin typeface="Bookman Old Style"/>
                <a:ea typeface="標楷體"/>
              </a:rPr>
              <a:t> May,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lution may be at the Source</a:t>
            </a:r>
            <a:endParaRPr b="0" lang="en-US" sz="3200" spc="-1" strike="noStrike">
              <a:solidFill>
                <a:srgbClr val="464653"/>
              </a:solidFill>
              <a:latin typeface="Bookman Old Style"/>
            </a:endParaRPr>
          </a:p>
        </p:txBody>
      </p:sp>
      <p:sp>
        <p:nvSpPr>
          <p:cNvPr id="405" name=""/>
          <p:cNvSpPr txBox="1"/>
          <p:nvPr/>
        </p:nvSpPr>
        <p:spPr>
          <a:xfrm>
            <a:off x="457200" y="1219320"/>
            <a:ext cx="8229600" cy="4937040"/>
          </a:xfrm>
          <a:prstGeom prst="rect">
            <a:avLst/>
          </a:prstGeom>
          <a:noFill/>
          <a:ln w="0">
            <a:noFill/>
          </a:ln>
        </p:spPr>
        <p:txBody>
          <a:bodyPr lIns="90000" rIns="90000" tIns="46800" bIns="46800"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an we identify objective and measureable criteria for evaluating MT of different purposes?</a:t>
            </a:r>
            <a:endParaRPr b="0" lang="en-US" sz="2600" spc="-1" strike="noStrike">
              <a:solidFill>
                <a:srgbClr val="000000"/>
              </a:solidFill>
              <a:latin typeface="Gill Sans MT"/>
            </a:endParaRPr>
          </a:p>
          <a:p>
            <a:pPr lvl="1" marL="498240" indent="-2480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g. accuracy of content words / name entities for gisting purpose?</a:t>
            </a:r>
            <a:endParaRPr b="0" lang="en-US" sz="22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endParaRPr b="0" lang="en-US" sz="23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MT system</a:t>
            </a:r>
            <a:endParaRPr b="0" lang="en-US" sz="2300" spc="-1" strike="noStrike">
              <a:solidFill>
                <a:srgbClr val="464653"/>
              </a:solidFill>
              <a:latin typeface="Gill Sans MT"/>
            </a:endParaRPr>
          </a:p>
          <a:p>
            <a:pPr lvl="1" marL="498240" indent="-2480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Automatic evaluation metric</a:t>
            </a:r>
            <a:endParaRPr b="0" lang="en-US" sz="23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Human evaluation</a:t>
            </a:r>
            <a:br>
              <a:rPr sz="2300"/>
            </a:br>
            <a:endParaRPr b="0" lang="en-US" sz="2300" spc="-1" strike="noStrike">
              <a:solidFill>
                <a:srgbClr val="464653"/>
              </a:solidFill>
              <a:latin typeface="Gill Sans MT"/>
            </a:endParaRPr>
          </a:p>
          <a:p>
            <a:pPr lvl="1" marL="498240" indent="-24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Evaluation context</a:t>
            </a:r>
            <a:endParaRPr b="0" lang="en-US" sz="2300" spc="-1" strike="noStrike">
              <a:solidFill>
                <a:srgbClr val="464653"/>
              </a:solidFill>
              <a:latin typeface="Gill Sans MT"/>
            </a:endParaRPr>
          </a:p>
        </p:txBody>
      </p:sp>
      <p:sp>
        <p:nvSpPr>
          <p:cNvPr id="406" name="向下箭號 5"/>
          <p:cNvSpPr/>
          <p:nvPr/>
        </p:nvSpPr>
        <p:spPr>
          <a:xfrm>
            <a:off x="2843280" y="3284640"/>
            <a:ext cx="357120" cy="714240"/>
          </a:xfrm>
          <a:prstGeom prst="down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向下箭號 6"/>
          <p:cNvSpPr/>
          <p:nvPr/>
        </p:nvSpPr>
        <p:spPr>
          <a:xfrm>
            <a:off x="2843280" y="4292640"/>
            <a:ext cx="357120" cy="714240"/>
          </a:xfrm>
          <a:prstGeom prst="downArrow">
            <a:avLst>
              <a:gd name="adj1" fmla="val 50000"/>
              <a:gd name="adj2" fmla="val 50000"/>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向下箭號 9"/>
          <p:cNvSpPr/>
          <p:nvPr/>
        </p:nvSpPr>
        <p:spPr>
          <a:xfrm>
            <a:off x="2843280" y="5283360"/>
            <a:ext cx="357120" cy="642600"/>
          </a:xfrm>
          <a:prstGeom prst="downArrow">
            <a:avLst>
              <a:gd name="adj1" fmla="val 50000"/>
              <a:gd name="adj2" fmla="val 49983"/>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投影片編號版面配置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9EAA-97D1-42FC-B612-415F5B1FB6C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grpSp>
        <p:nvGrpSpPr>
          <p:cNvPr id="410" name=""/>
          <p:cNvGrpSpPr/>
          <p:nvPr/>
        </p:nvGrpSpPr>
        <p:grpSpPr>
          <a:xfrm>
            <a:off x="1692360" y="2636640"/>
            <a:ext cx="431640" cy="3096000"/>
            <a:chOff x="1692360" y="2636640"/>
            <a:chExt cx="431640" cy="3096000"/>
          </a:xfrm>
        </p:grpSpPr>
        <p:sp>
          <p:nvSpPr>
            <p:cNvPr id="411" name=""/>
            <p:cNvSpPr/>
            <p:nvPr/>
          </p:nvSpPr>
          <p:spPr>
            <a:xfrm>
              <a:off x="1692360" y="5732640"/>
              <a:ext cx="43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1692360" y="2636640"/>
              <a:ext cx="0" cy="3095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6084720" y="4869000"/>
            <a:ext cx="251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re informative assessment</a:t>
            </a:r>
            <a:endParaRPr b="0" lang="en-US" sz="1800" spc="-1" strike="noStrike">
              <a:solidFill>
                <a:srgbClr val="000000"/>
              </a:solidFill>
              <a:latin typeface="Arial"/>
            </a:endParaRPr>
          </a:p>
        </p:txBody>
      </p:sp>
      <p:sp>
        <p:nvSpPr>
          <p:cNvPr id="414" name=""/>
          <p:cNvSpPr/>
          <p:nvPr/>
        </p:nvSpPr>
        <p:spPr>
          <a:xfrm>
            <a:off x="6081840" y="378936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re transparent metric</a:t>
            </a:r>
            <a:endParaRPr b="0" lang="en-US" sz="1800" spc="-1" strike="noStrike">
              <a:solidFill>
                <a:srgbClr val="000000"/>
              </a:solidFill>
              <a:latin typeface="Arial"/>
            </a:endParaRPr>
          </a:p>
        </p:txBody>
      </p:sp>
      <p:sp>
        <p:nvSpPr>
          <p:cNvPr id="415" name=""/>
          <p:cNvSpPr/>
          <p:nvPr/>
        </p:nvSpPr>
        <p:spPr>
          <a:xfrm>
            <a:off x="6081840" y="270828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re accountable system</a:t>
            </a:r>
            <a:endParaRPr b="0" lang="en-US" sz="1800" spc="-1" strike="noStrike">
              <a:solidFill>
                <a:srgbClr val="000000"/>
              </a:solidFill>
              <a:latin typeface="Arial"/>
            </a:endParaRPr>
          </a:p>
        </p:txBody>
      </p:sp>
      <p:sp>
        <p:nvSpPr>
          <p:cNvPr id="416" name=""/>
          <p:cNvSpPr/>
          <p:nvPr/>
        </p:nvSpPr>
        <p:spPr>
          <a:xfrm flipV="1">
            <a:off x="6877080" y="436572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6877080" y="328464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067280" y="530064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re intuitive relationship</a:t>
            </a:r>
            <a:endParaRPr b="0" lang="en-US" sz="1800" spc="-1" strike="noStrike">
              <a:solidFill>
                <a:srgbClr val="000000"/>
              </a:solidFill>
              <a:latin typeface="Arial"/>
            </a:endParaRPr>
          </a:p>
        </p:txBody>
      </p:sp>
      <p:grpSp>
        <p:nvGrpSpPr>
          <p:cNvPr id="419" name=""/>
          <p:cNvGrpSpPr/>
          <p:nvPr/>
        </p:nvGrpSpPr>
        <p:grpSpPr>
          <a:xfrm>
            <a:off x="5651640" y="5516640"/>
            <a:ext cx="1225440" cy="288720"/>
            <a:chOff x="5651640" y="5516640"/>
            <a:chExt cx="1225440" cy="288720"/>
          </a:xfrm>
        </p:grpSpPr>
        <p:sp>
          <p:nvSpPr>
            <p:cNvPr id="420" name=""/>
            <p:cNvSpPr/>
            <p:nvPr/>
          </p:nvSpPr>
          <p:spPr>
            <a:xfrm flipV="1">
              <a:off x="6877080" y="5516640"/>
              <a:ext cx="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5651640" y="5805360"/>
              <a:ext cx="1225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Bookman Old Style"/>
              </a:rPr>
              <a:t>The Need of Standard Criteria</a:t>
            </a:r>
            <a:endParaRPr b="0" lang="en-US" sz="40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valuation of </a:t>
            </a:r>
            <a:r>
              <a:rPr b="0" lang="en-US" sz="2400" spc="-1" strike="noStrike">
                <a:solidFill>
                  <a:srgbClr val="000000"/>
                </a:solidFill>
                <a:latin typeface="Gill Sans MT"/>
              </a:rPr>
              <a:t>evaluation of</a:t>
            </a:r>
            <a:r>
              <a:rPr b="0" lang="en-US" sz="2600" spc="-1" strike="noStrike">
                <a:solidFill>
                  <a:srgbClr val="000000"/>
                </a:solidFill>
                <a:latin typeface="Gill Sans MT"/>
              </a:rPr>
              <a:t> </a:t>
            </a:r>
            <a:r>
              <a:rPr b="0" lang="en-US" sz="1800" spc="-1" strike="noStrike">
                <a:solidFill>
                  <a:srgbClr val="000000"/>
                </a:solidFill>
                <a:latin typeface="Gill Sans MT"/>
              </a:rPr>
              <a:t>evaluation…</a:t>
            </a:r>
            <a:endParaRPr b="0" lang="en-US" sz="1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hain:</a:t>
            </a:r>
            <a:endParaRPr b="0" lang="en-US" sz="2600" spc="-1" strike="noStrike">
              <a:solidFill>
                <a:srgbClr val="000000"/>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MT system</a:t>
            </a:r>
            <a:endParaRPr b="0" lang="en-US" sz="23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Automatic evaluation metric</a:t>
            </a:r>
            <a:endParaRPr b="0" lang="en-US" sz="23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Human evaluation</a:t>
            </a:r>
            <a:br>
              <a:rPr sz="2300"/>
            </a:br>
            <a:endParaRPr b="0" lang="en-US" sz="2300" spc="-1" strike="noStrike">
              <a:solidFill>
                <a:srgbClr val="464653"/>
              </a:solidFill>
              <a:latin typeface="Gill Sans MT"/>
            </a:endParaRPr>
          </a:p>
          <a:p>
            <a:pPr lvl="1" marL="54756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464653"/>
                </a:solidFill>
                <a:latin typeface="Gill Sans MT"/>
              </a:rPr>
              <a:t>	</a:t>
            </a:r>
            <a:r>
              <a:rPr b="0" lang="en-US" sz="2300" spc="-1" strike="noStrike">
                <a:solidFill>
                  <a:srgbClr val="464653"/>
                </a:solidFill>
                <a:latin typeface="Gill Sans MT"/>
              </a:rPr>
              <a:t>	</a:t>
            </a:r>
            <a:r>
              <a:rPr b="0" lang="en-US" sz="2300" spc="-1" strike="noStrike">
                <a:solidFill>
                  <a:srgbClr val="464653"/>
                </a:solidFill>
                <a:latin typeface="Gill Sans MT"/>
              </a:rPr>
              <a:t>Evaluation context</a:t>
            </a:r>
            <a:endParaRPr b="0" lang="en-US" sz="2300" spc="-1" strike="noStrike">
              <a:solidFill>
                <a:srgbClr val="464653"/>
              </a:solidFill>
              <a:latin typeface="Gill Sans MT"/>
            </a:endParaRPr>
          </a:p>
        </p:txBody>
      </p:sp>
      <p:sp>
        <p:nvSpPr>
          <p:cNvPr id="364" name="向下箭號 5"/>
          <p:cNvSpPr/>
          <p:nvPr/>
        </p:nvSpPr>
        <p:spPr>
          <a:xfrm>
            <a:off x="2857680" y="2500200"/>
            <a:ext cx="357120" cy="714600"/>
          </a:xfrm>
          <a:prstGeom prst="downArrow">
            <a:avLst>
              <a:gd name="adj1" fmla="val 50000"/>
              <a:gd name="adj2" fmla="val 50025"/>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向下箭號 6"/>
          <p:cNvSpPr/>
          <p:nvPr/>
        </p:nvSpPr>
        <p:spPr>
          <a:xfrm>
            <a:off x="2857680" y="3643200"/>
            <a:ext cx="357120" cy="714600"/>
          </a:xfrm>
          <a:prstGeom prst="downArrow">
            <a:avLst>
              <a:gd name="adj1" fmla="val 50000"/>
              <a:gd name="adj2" fmla="val 50025"/>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文字方塊 7"/>
          <p:cNvSpPr/>
          <p:nvPr/>
        </p:nvSpPr>
        <p:spPr>
          <a:xfrm>
            <a:off x="3651840" y="2643120"/>
            <a:ext cx="26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Max(auto-metric scores)</a:t>
            </a:r>
            <a:endParaRPr b="0" lang="en-US" sz="1800" spc="-1" strike="noStrike">
              <a:solidFill>
                <a:srgbClr val="000000"/>
              </a:solidFill>
              <a:latin typeface="Arial"/>
            </a:endParaRPr>
          </a:p>
        </p:txBody>
      </p:sp>
      <p:sp>
        <p:nvSpPr>
          <p:cNvPr id="367" name="文字方塊 8"/>
          <p:cNvSpPr/>
          <p:nvPr/>
        </p:nvSpPr>
        <p:spPr>
          <a:xfrm>
            <a:off x="3700800" y="378612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Max(correlation with human evaluation)</a:t>
            </a:r>
            <a:endParaRPr b="0" lang="en-US" sz="1800" spc="-1" strike="noStrike">
              <a:solidFill>
                <a:srgbClr val="000000"/>
              </a:solidFill>
              <a:latin typeface="Arial"/>
            </a:endParaRPr>
          </a:p>
        </p:txBody>
      </p:sp>
      <p:sp>
        <p:nvSpPr>
          <p:cNvPr id="368" name="向下箭號 9"/>
          <p:cNvSpPr/>
          <p:nvPr/>
        </p:nvSpPr>
        <p:spPr>
          <a:xfrm>
            <a:off x="2857680" y="4786200"/>
            <a:ext cx="357120" cy="642960"/>
          </a:xfrm>
          <a:prstGeom prst="downArrow">
            <a:avLst>
              <a:gd name="adj1" fmla="val 50000"/>
              <a:gd name="adj2" fmla="val 50011"/>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字方塊 10"/>
          <p:cNvSpPr/>
          <p:nvPr/>
        </p:nvSpPr>
        <p:spPr>
          <a:xfrm>
            <a:off x="3698640" y="4857840"/>
            <a:ext cx="39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Max(adequacy to evaluation context)</a:t>
            </a:r>
            <a:endParaRPr b="0" lang="en-US" sz="1800" spc="-1" strike="noStrike">
              <a:solidFill>
                <a:srgbClr val="000000"/>
              </a:solidFill>
              <a:latin typeface="Arial"/>
            </a:endParaRPr>
          </a:p>
        </p:txBody>
      </p:sp>
      <p:sp>
        <p:nvSpPr>
          <p:cNvPr id="370" name="投影片編號版面配置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1265-630C-4D91-AF82-8F2430A085B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T System </a:t>
            </a:r>
            <a:r>
              <a:rPr b="0" lang="en-US" sz="3200" spc="-1" strike="noStrike">
                <a:solidFill>
                  <a:srgbClr val="464653"/>
                </a:solidFill>
                <a:latin typeface="Wingdings"/>
                <a:ea typeface="Wingdings"/>
              </a:rPr>
              <a:t></a:t>
            </a:r>
            <a:r>
              <a:rPr b="0" lang="en-US" sz="3200" spc="-1" strike="noStrike">
                <a:solidFill>
                  <a:srgbClr val="464653"/>
                </a:solidFill>
                <a:latin typeface="Bookman Old Style"/>
              </a:rPr>
              <a:t> Auto-Evaluation Metric</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LEU as the quality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typical scenario: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aseline BLEU score: 0.30</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3% improvement</a:t>
            </a:r>
            <a:endParaRPr b="0" lang="en-US" sz="24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resultant score 0.309 </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mon criticisms on BLEU</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Scores are not meaningful; bias to statistical systems; preference for literal translation; insensitive to slight quality difference…</a:t>
            </a:r>
            <a:endParaRPr b="0" lang="en-US" sz="22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should we interpret metric scor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53"/>
              </a:solidFill>
              <a:latin typeface="Gill Sans MT"/>
            </a:endParaRPr>
          </a:p>
        </p:txBody>
      </p:sp>
      <p:sp>
        <p:nvSpPr>
          <p:cNvPr id="373"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E6B2-EDD0-4655-B804-FAC0CF8D8EF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400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Auto-Evaluation Metric </a:t>
            </a:r>
            <a:r>
              <a:rPr b="0" lang="en-US" sz="2900" spc="-1" strike="noStrike">
                <a:solidFill>
                  <a:srgbClr val="464653"/>
                </a:solidFill>
                <a:latin typeface="Wingdings"/>
                <a:ea typeface="Wingdings"/>
              </a:rPr>
              <a:t></a:t>
            </a:r>
            <a:r>
              <a:rPr b="0" lang="en-US" sz="2900" spc="-1" strike="noStrike">
                <a:solidFill>
                  <a:srgbClr val="464653"/>
                </a:solidFill>
                <a:latin typeface="Bookman Old Style"/>
              </a:rPr>
              <a:t> Human Evaluation</a:t>
            </a:r>
            <a:endParaRPr b="0" lang="en-US" sz="29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rrelation with human judgments as the quality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ome problem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Textual similarity is not a reliable indicator</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Linguistic analysis is more theoretically (intuitively?) sound, but:</a:t>
            </a:r>
            <a:endParaRPr b="0" lang="en-US" sz="2200" spc="-1" strike="noStrike">
              <a:solidFill>
                <a:srgbClr val="464653"/>
              </a:solidFill>
              <a:latin typeface="Gill Sans MT"/>
            </a:endParaRPr>
          </a:p>
          <a:p>
            <a:pPr lvl="2" marL="1143000" indent="-2286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Do linguistic heavy metrics demonstrate stronger correction?</a:t>
            </a:r>
            <a:endParaRPr b="0" lang="en-US" sz="2100" spc="-1" strike="noStrike">
              <a:solidFill>
                <a:srgbClr val="000000"/>
              </a:solidFill>
              <a:latin typeface="Gill Sans MT"/>
            </a:endParaRPr>
          </a:p>
          <a:p>
            <a:pPr lvl="2" marL="1143000" indent="-2286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6"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CD51-2503-4B2B-BF75-07E8BC88BF5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400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Auto-Evaluation Metric </a:t>
            </a:r>
            <a:r>
              <a:rPr b="0" lang="en-US" sz="2900" spc="-1" strike="noStrike">
                <a:solidFill>
                  <a:srgbClr val="464653"/>
                </a:solidFill>
                <a:latin typeface="Wingdings"/>
                <a:ea typeface="Wingdings"/>
              </a:rPr>
              <a:t></a:t>
            </a:r>
            <a:r>
              <a:rPr b="0" lang="en-US" sz="2900" spc="-1" strike="noStrike">
                <a:solidFill>
                  <a:srgbClr val="464653"/>
                </a:solidFill>
                <a:latin typeface="Bookman Old Style"/>
              </a:rPr>
              <a:t> Human Evaluation</a:t>
            </a:r>
            <a:endParaRPr b="0" lang="en-US" sz="29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Do linguistic heavy metrics demonstrate stronger correction?</a:t>
            </a: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MetricsMATR08:</a:t>
            </a:r>
            <a:endParaRPr b="0" lang="en-US" sz="2100" spc="-1" strike="noStrike">
              <a:solidFill>
                <a:srgbClr val="000000"/>
              </a:solidFill>
              <a:latin typeface="Gill Sans MT"/>
            </a:endParaRPr>
          </a:p>
          <a:p>
            <a:pPr lvl="2" marL="1143000" indent="-2286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
        <p:nvSpPr>
          <p:cNvPr id="379"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201B-4223-4959-9AB3-2F405CB69DE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pic>
        <p:nvPicPr>
          <p:cNvPr id="380" name="" descr=""/>
          <p:cNvPicPr/>
          <p:nvPr/>
        </p:nvPicPr>
        <p:blipFill>
          <a:blip r:embed="rId1"/>
          <a:srcRect l="47787" t="23531" r="14567" b="15977"/>
          <a:stretch/>
        </p:blipFill>
        <p:spPr>
          <a:xfrm>
            <a:off x="0" y="2133720"/>
            <a:ext cx="2987640" cy="2814480"/>
          </a:xfrm>
          <a:prstGeom prst="rect">
            <a:avLst/>
          </a:prstGeom>
          <a:ln w="0">
            <a:noFill/>
          </a:ln>
        </p:spPr>
      </p:pic>
      <p:pic>
        <p:nvPicPr>
          <p:cNvPr id="381" name="" descr=""/>
          <p:cNvPicPr/>
          <p:nvPr/>
        </p:nvPicPr>
        <p:blipFill>
          <a:blip r:embed="rId2"/>
          <a:srcRect l="27849" t="24809" r="8660" b="23531"/>
          <a:stretch/>
        </p:blipFill>
        <p:spPr>
          <a:xfrm>
            <a:off x="3059280" y="1628640"/>
            <a:ext cx="5833800" cy="2781360"/>
          </a:xfrm>
          <a:prstGeom prst="rect">
            <a:avLst/>
          </a:prstGeom>
          <a:ln w="0">
            <a:noFill/>
          </a:ln>
        </p:spPr>
      </p:pic>
      <p:sp>
        <p:nvSpPr>
          <p:cNvPr id="382" name=""/>
          <p:cNvSpPr/>
          <p:nvPr/>
        </p:nvSpPr>
        <p:spPr>
          <a:xfrm>
            <a:off x="2960640" y="4313160"/>
            <a:ext cx="5124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nks                             Ran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M-rank              13                                     </a:t>
            </a: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                        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DR,SR            29-38                              31-3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egment level)</a:t>
            </a:r>
            <a:endParaRPr b="0" lang="en-US" sz="1800" spc="-1" strike="noStrike">
              <a:solidFill>
                <a:srgbClr val="000000"/>
              </a:solidFill>
              <a:latin typeface="Arial"/>
            </a:endParaRPr>
          </a:p>
        </p:txBody>
      </p:sp>
      <p:sp>
        <p:nvSpPr>
          <p:cNvPr id="383" name=""/>
          <p:cNvSpPr/>
          <p:nvPr/>
        </p:nvSpPr>
        <p:spPr>
          <a:xfrm>
            <a:off x="1582560" y="587700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zybocki et al. (2009) The NIST 2008 Metrics for machine translation challenge—overview, methodology, metrics, and results. Machine Translation (23) 71:1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400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Auto-Evaluation Metric </a:t>
            </a:r>
            <a:r>
              <a:rPr b="0" lang="en-US" sz="2900" spc="-1" strike="noStrike">
                <a:solidFill>
                  <a:srgbClr val="464653"/>
                </a:solidFill>
                <a:latin typeface="Wingdings"/>
                <a:ea typeface="Wingdings"/>
              </a:rPr>
              <a:t></a:t>
            </a:r>
            <a:r>
              <a:rPr b="0" lang="en-US" sz="2900" spc="-1" strike="noStrike">
                <a:solidFill>
                  <a:srgbClr val="464653"/>
                </a:solidFill>
                <a:latin typeface="Bookman Old Style"/>
              </a:rPr>
              <a:t> Human Evaluation</a:t>
            </a:r>
            <a:endParaRPr b="0" lang="en-US" sz="29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rrelation with human judgments as the quality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ome problem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Textual similarity is not a reliable indicator</a:t>
            </a:r>
            <a:endParaRPr b="0" lang="en-US" sz="22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Linguistic analysis is more theoretically (intuitively?) sound, but:</a:t>
            </a:r>
            <a:endParaRPr b="0" lang="en-US" sz="2200" spc="-1" strike="noStrike">
              <a:solidFill>
                <a:srgbClr val="464653"/>
              </a:solidFill>
              <a:latin typeface="Gill Sans MT"/>
            </a:endParaRPr>
          </a:p>
          <a:p>
            <a:pPr lvl="2" marL="1143000" indent="-2286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ill Sans MT"/>
              </a:rPr>
              <a:t>Do linguistic heavy metrics demonstrate stronger correction?</a:t>
            </a:r>
            <a:endParaRPr b="0" lang="en-US" sz="2100" spc="-1" strike="noStrike">
              <a:solidFill>
                <a:srgbClr val="000000"/>
              </a:solidFill>
              <a:latin typeface="Gill Sans MT"/>
            </a:endParaRPr>
          </a:p>
          <a:p>
            <a:pPr lvl="2" marL="1143000" indent="-228600">
              <a:spcBef>
                <a:spcPts val="499"/>
              </a:spcBef>
              <a:buClr>
                <a:srgbClr val="bcbcbc"/>
              </a:buClr>
              <a:buSzPct val="76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should we interpret correction?</a:t>
            </a:r>
            <a:endParaRPr b="0" lang="en-US" sz="2600" spc="-1" strike="noStrike">
              <a:solidFill>
                <a:srgbClr val="000000"/>
              </a:solidFill>
              <a:latin typeface="Gill Sans MT"/>
            </a:endParaRPr>
          </a:p>
        </p:txBody>
      </p:sp>
      <p:sp>
        <p:nvSpPr>
          <p:cNvPr id="386"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6FCA-DA36-4025-B1AE-803EF527F8C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Human Evaluation </a:t>
            </a:r>
            <a:r>
              <a:rPr b="0" lang="en-US" sz="2900" spc="-1" strike="noStrike">
                <a:solidFill>
                  <a:srgbClr val="464653"/>
                </a:solidFill>
                <a:latin typeface="Wingdings"/>
                <a:ea typeface="Wingdings"/>
              </a:rPr>
              <a:t></a:t>
            </a:r>
            <a:r>
              <a:rPr b="0" lang="en-US" sz="2900" spc="-1" strike="noStrike">
                <a:solidFill>
                  <a:srgbClr val="464653"/>
                </a:solidFill>
                <a:latin typeface="Bookman Old Style"/>
              </a:rPr>
              <a:t> Evaluation Context</a:t>
            </a:r>
            <a:endParaRPr b="0" lang="en-US" sz="29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mon types of manual evaluation:</a:t>
            </a:r>
            <a:endParaRPr b="0" lang="en-US" sz="2600" spc="-1" strike="noStrike">
              <a:solidFill>
                <a:srgbClr val="000000"/>
              </a:solidFill>
              <a:latin typeface="Gill Sans MT"/>
            </a:endParaRPr>
          </a:p>
          <a:p>
            <a:pPr lvl="1" marL="743040" indent="-2858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adequacy, fluency, sentence ranking, edit distance…</a:t>
            </a:r>
            <a:endParaRPr b="0" lang="en-US" sz="22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onsistency between annotators</a:t>
            </a:r>
            <a:endParaRPr b="0" lang="en-US" sz="2600" spc="-1" strike="noStrike">
              <a:solidFill>
                <a:srgbClr val="000000"/>
              </a:solidFill>
              <a:latin typeface="Gill Sans MT"/>
            </a:endParaRPr>
          </a:p>
        </p:txBody>
      </p:sp>
      <p:sp>
        <p:nvSpPr>
          <p:cNvPr id="389"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5BA7-AA4F-4DA9-9BC9-65C951D743E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Human Evaluation </a:t>
            </a:r>
            <a:r>
              <a:rPr b="0" lang="en-US" sz="2900" spc="-1" strike="noStrike">
                <a:solidFill>
                  <a:srgbClr val="464653"/>
                </a:solidFill>
                <a:latin typeface="Wingdings"/>
                <a:ea typeface="Wingdings"/>
              </a:rPr>
              <a:t></a:t>
            </a:r>
            <a:r>
              <a:rPr b="0" lang="en-US" sz="2900" spc="-1" strike="noStrike">
                <a:solidFill>
                  <a:srgbClr val="464653"/>
                </a:solidFill>
                <a:latin typeface="Bookman Old Style"/>
              </a:rPr>
              <a:t> Evaluation Context</a:t>
            </a:r>
            <a:endParaRPr b="0" lang="en-US" sz="29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onsistency between annotato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2FC3-F350-4AE4-9C87-28A07F1724F2}"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pic>
        <p:nvPicPr>
          <p:cNvPr id="393" name="" descr=""/>
          <p:cNvPicPr/>
          <p:nvPr/>
        </p:nvPicPr>
        <p:blipFill>
          <a:blip r:embed="rId1"/>
          <a:srcRect l="29329" t="32363" r="6445" b="12197"/>
          <a:stretch/>
        </p:blipFill>
        <p:spPr>
          <a:xfrm>
            <a:off x="0" y="2565360"/>
            <a:ext cx="5040360" cy="2549520"/>
          </a:xfrm>
          <a:prstGeom prst="rect">
            <a:avLst/>
          </a:prstGeom>
          <a:ln w="0">
            <a:noFill/>
          </a:ln>
        </p:spPr>
      </p:pic>
      <p:pic>
        <p:nvPicPr>
          <p:cNvPr id="394" name="" descr=""/>
          <p:cNvPicPr/>
          <p:nvPr/>
        </p:nvPicPr>
        <p:blipFill>
          <a:blip r:embed="rId2"/>
          <a:srcRect l="15301" t="38669" r="49271" b="13476"/>
          <a:stretch/>
        </p:blipFill>
        <p:spPr>
          <a:xfrm>
            <a:off x="5292720" y="2565360"/>
            <a:ext cx="3456000" cy="2735280"/>
          </a:xfrm>
          <a:prstGeom prst="rect">
            <a:avLst/>
          </a:prstGeom>
          <a:ln w="0">
            <a:noFill/>
          </a:ln>
        </p:spPr>
      </p:pic>
      <p:sp>
        <p:nvSpPr>
          <p:cNvPr id="395" name=""/>
          <p:cNvSpPr/>
          <p:nvPr/>
        </p:nvSpPr>
        <p:spPr>
          <a:xfrm>
            <a:off x="1692360" y="1844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sMATR08 (adequacy)</a:t>
            </a:r>
            <a:endParaRPr b="0" lang="en-US" sz="1800" spc="-1" strike="noStrike">
              <a:solidFill>
                <a:srgbClr val="000000"/>
              </a:solidFill>
              <a:latin typeface="Arial"/>
            </a:endParaRPr>
          </a:p>
        </p:txBody>
      </p:sp>
      <p:sp>
        <p:nvSpPr>
          <p:cNvPr id="396" name=""/>
          <p:cNvSpPr/>
          <p:nvPr/>
        </p:nvSpPr>
        <p:spPr>
          <a:xfrm>
            <a:off x="6012000" y="1916280"/>
            <a:ext cx="24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MT07</a:t>
            </a:r>
            <a:endParaRPr b="0" lang="en-US" sz="2000" spc="-1" strike="noStrike">
              <a:solidFill>
                <a:srgbClr val="000000"/>
              </a:solidFill>
              <a:latin typeface="Arial"/>
            </a:endParaRPr>
          </a:p>
        </p:txBody>
      </p:sp>
      <p:sp>
        <p:nvSpPr>
          <p:cNvPr id="397" name=""/>
          <p:cNvSpPr/>
          <p:nvPr/>
        </p:nvSpPr>
        <p:spPr>
          <a:xfrm>
            <a:off x="1116000" y="2781360"/>
            <a:ext cx="792000" cy="16556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8244000" y="2421000"/>
            <a:ext cx="504720" cy="187164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24000" y="5229360"/>
            <a:ext cx="4392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zybocki et al. (2009) The NIST 2008 Metrics for machine translation challenge—overview, methodology, metrics, and results. Machine Translation (23) 71:103.</a:t>
            </a:r>
            <a:endParaRPr b="0" lang="en-US" sz="1400" spc="-1" strike="noStrike">
              <a:solidFill>
                <a:srgbClr val="000000"/>
              </a:solidFill>
              <a:latin typeface="Arial"/>
            </a:endParaRPr>
          </a:p>
        </p:txBody>
      </p:sp>
      <p:sp>
        <p:nvSpPr>
          <p:cNvPr id="400" name=""/>
          <p:cNvSpPr/>
          <p:nvPr/>
        </p:nvSpPr>
        <p:spPr>
          <a:xfrm>
            <a:off x="4788000" y="5229360"/>
            <a:ext cx="435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son-Burch et al. (2007) (Meta-) evaluation of machine translation. ACL Workshops, Second Workshop on Statistical Machine Translation, 136-15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Human Evaluation </a:t>
            </a:r>
            <a:r>
              <a:rPr b="0" lang="en-US" sz="2900" spc="-1" strike="noStrike">
                <a:solidFill>
                  <a:srgbClr val="464653"/>
                </a:solidFill>
                <a:latin typeface="Wingdings"/>
                <a:ea typeface="Wingdings"/>
              </a:rPr>
              <a:t></a:t>
            </a:r>
            <a:r>
              <a:rPr b="0" lang="en-US" sz="2900" spc="-1" strike="noStrike">
                <a:solidFill>
                  <a:srgbClr val="464653"/>
                </a:solidFill>
                <a:latin typeface="Bookman Old Style"/>
              </a:rPr>
              <a:t> Evaluation Context</a:t>
            </a:r>
            <a:endParaRPr b="0" lang="en-US" sz="29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lIns="90000" rIns="90000" tIns="46800" bIns="46800"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mmon types of manual evaluation:</a:t>
            </a:r>
            <a:endParaRPr b="0" lang="en-US" sz="2600" spc="-1" strike="noStrike">
              <a:solidFill>
                <a:srgbClr val="000000"/>
              </a:solidFill>
              <a:latin typeface="Gill Sans MT"/>
            </a:endParaRPr>
          </a:p>
          <a:p>
            <a:pPr lvl="1" marL="727920" indent="-280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adequacy, fluency, sentence ranking, edit distance…</a:t>
            </a:r>
            <a:endParaRPr b="0" lang="en-US" sz="22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onsistency between annotators</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ssessment criteria are unclear</a:t>
            </a:r>
            <a:endParaRPr b="0" lang="en-US" sz="2600" spc="-1" strike="noStrike">
              <a:solidFill>
                <a:srgbClr val="000000"/>
              </a:solidFill>
              <a:latin typeface="Gill Sans MT"/>
            </a:endParaRPr>
          </a:p>
          <a:p>
            <a:pPr lvl="1" marL="727920" indent="-280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g. what constitutes a fluent sentence?</a:t>
            </a:r>
            <a:endParaRPr b="0" lang="en-US" sz="2200" spc="-1" strike="noStrike">
              <a:solidFill>
                <a:srgbClr val="464653"/>
              </a:solidFill>
              <a:latin typeface="Gill Sans MT"/>
            </a:endParaRPr>
          </a:p>
          <a:p>
            <a:pPr lvl="1" marL="727920" indent="-280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E.g. how do we rank sentences according to their quality? what kinds of quality?</a:t>
            </a:r>
            <a:endParaRPr b="0" lang="en-US" sz="22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do these criteria relate to evaluation context?</a:t>
            </a:r>
            <a:endParaRPr b="0" lang="en-US" sz="2600" spc="-1" strike="noStrike">
              <a:solidFill>
                <a:srgbClr val="000000"/>
              </a:solidFill>
              <a:latin typeface="Gill Sans MT"/>
            </a:endParaRPr>
          </a:p>
          <a:p>
            <a:pPr lvl="1" marL="727920" indent="-280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Gill Sans MT"/>
              </a:rPr>
              <a:t>process, users and uses </a:t>
            </a:r>
            <a:endParaRPr b="0" lang="en-US" sz="2200" spc="-1" strike="noStrike">
              <a:solidFill>
                <a:srgbClr val="464653"/>
              </a:solidFill>
              <a:latin typeface="Gill Sans MT"/>
            </a:endParaRPr>
          </a:p>
          <a:p>
            <a:pPr lvl="1" marL="727920" indent="-2800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at is the root of the question?</a:t>
            </a:r>
            <a:endParaRPr b="0" lang="en-US" sz="2600" spc="-1" strike="noStrike">
              <a:solidFill>
                <a:srgbClr val="000000"/>
              </a:solidFill>
              <a:latin typeface="Gill Sans MT"/>
            </a:endParaRPr>
          </a:p>
        </p:txBody>
      </p:sp>
      <p:sp>
        <p:nvSpPr>
          <p:cNvPr id="403" name="投影片編號版面配置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4434-5AF8-4F02-8A79-922B5D7B9AC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13:01:49Z</dcterms:created>
  <dc:creator>TM</dc:creator>
  <dc:description/>
  <dc:language>en-US</dc:language>
  <cp:lastModifiedBy>TM</cp:lastModifiedBy>
  <dcterms:modified xsi:type="dcterms:W3CDTF">2010-05-19T15:42:23Z</dcterms:modified>
  <cp:revision>37</cp:revision>
  <dc:subject/>
  <dc:title>Evaluation of Evaluation of Evaluation…</dc:title>
</cp:coreProperties>
</file>