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D79-32BB-40E3-9827-0D905F184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seness of resources has accompanied emotion research to the present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ce réservé du numéro de diapositive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1E9-649A-4830-A581-3EDA56D5EC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seness of resources has accompanied emotion research to the present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Espace réservé du numéro de diapositive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3C72-9EE6-4F65-AD68-54B1304E31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8B0-A220-4BAD-8D7C-9C33DE20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915-DF4F-4732-A69D-39D4C1F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67D-6615-4FE3-88EE-751EB6DF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B9F-7923-4D8B-8B70-7A2E8AD1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0ECD-16AA-4E30-8F55-733DA89B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D916-DDD8-40FF-916B-40EBD94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266C-620A-457F-8A98-6471F21C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5FB-FE3A-4BB9-87F0-0ABCB54C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303-A722-4BD6-AD04-CF76938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8C7E-58B0-4781-AC56-7ABBF0D6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9DB-A154-46CD-91D7-F19A781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0BF-558B-4F15-A35F-1874B45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201-04BC-4BDE-A083-C25731D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2D99-B3D6-4CE2-BC6A-AA94597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38B5-EB68-4B65-8B2C-9B122E31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0729-BB3A-4DFF-B320-4B0A1CF2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3F1C-E62D-4931-97A4-928D4D0F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4635-A3A2-4CB1-AF07-411989FA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6554-9AE4-448F-B1C4-9FCAFD4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1048-347B-45C4-812E-DBD87C65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784C-CA7F-4DCE-8FE0-622F5F38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0FFB-AF16-4ED8-A6C8-3A26D8A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DE4-D2B3-4E34-ACD1-6951505D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CFA3-D101-4241-892F-755D41D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97E3-3C43-44FE-A8CC-4CF9276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E50C-E9AD-4080-8029-1132326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2449-9F1A-40AE-8325-E73DA6F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D8D8-07AA-4B66-83CF-15814543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D3C2-5DC7-4FD6-BEF1-9C860B6A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03C8-41D4-4261-9AC5-96FB516F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E7F7-01E9-49F4-AA06-C4E3EEAA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43E6-3DB8-4F6F-AC11-EE92802E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AD78-3CD6-4938-A02F-5098507E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2FC-2B8F-47C2-A90D-E7639B87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984F-ABA6-454F-B35E-E5369A8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55D1-D189-40F8-A38E-88583E7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8706-6661-444F-A381-9E8E89EE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271D-7288-4833-84C1-E3601E2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B4DB-7F72-4976-9853-1EC518B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5E25-FDD4-4338-A195-34A57F68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37A6-1586-41AB-AA12-39E9CE4D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9031-8CEB-41B0-B705-28B28F1D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3CED-B0F8-4C50-BC08-1EED766D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34A2-F164-44BA-8D34-50CBABB5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DC8-8EB4-4A2F-879E-76A27157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783E-1291-44E9-8E77-5D7A5ADC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735C-47DE-4CEE-AB55-A3C9ED1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D112-1C62-41EC-A6B2-0441CA5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BE80-3B7B-4125-8DC3-905B8E51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3168-3FAB-49AD-BAA0-3FBE8670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BED39-95E4-4023-A115-EFDCBD0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B983-50FA-4CCA-9ED3-D0172C6C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1C77-BBD6-4C07-98AF-178B3CE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7BBB-8BB1-4210-8931-5BF3096F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2EDC-D508-4D1C-B53B-31FD1D99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1C8-9A23-4B32-900A-873CF74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FB63-4A66-4BF1-8045-B5F61C98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3CC9-33DE-47B4-83F4-873AFD9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3540A-3EFD-4ABC-9B8D-E1AC8C3B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D8DC-E2B2-4133-883B-FFEBC6A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CCAD-3ABD-4C12-8764-737B84B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FB09A-74E3-4CA8-BF53-135D9100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0871B-F8C0-4853-A172-48377B23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79BD-E030-4F48-B769-025D83D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15EC-2104-43C8-9621-DB59278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BB5E-BEE4-4FF7-9144-2040854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AEA-C468-4B9E-B6D0-0B0FE9E4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E1743-FDC8-4325-94D5-C594585F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1C84-7412-4209-A2FB-343E0732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34A85-0311-4835-88E4-25CFCDBC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6881B-5EC7-46CF-BBF0-B221B535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32A38-44E8-438F-96F5-5C9DD9FC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3667-DD8C-4C8F-BB8D-95C7FF9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8366F-AC43-4746-954F-D423468C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A76B-8DA8-45CF-9D09-C0633F2F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DFE7-0B07-4AC9-A855-6BF73C76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E94B-27FE-454E-8EF1-9084987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711-742C-4942-89BC-0561E27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6368-6B94-498C-9B91-2E949CC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74D1D-5921-446C-88B0-55F414E8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11FB-1998-492A-BEDC-708478BC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41B7-3D7B-4323-B841-74BA9ECC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A4B0-5A70-4D69-9955-8F466C6E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AF0-DEBA-4035-8AF1-29469FE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F33-706A-4D25-ACFC-A366B8029793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768-DCA2-4D42-80DC-76DF2DBE2C43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7ADB-7895-4012-A1D4-3C979B8F1085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2343-6201-4A0A-AE10-1E9501698EFD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F656-287D-475B-BC0E-3FA0E67FC866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FF5-357F-49D9-BA4F-082F3EE1CEE4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10B-17C7-46BB-B316-5BAEB0D06D1D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C785-3192-4A04-A1ED-19809E655A3B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07F-B824-4B7B-93A3-FEACB12A204E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43CE-A0FC-4D41-98E0-ED7161B3074C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44E7-2A56-4908-906A-AA5408FBEB22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8793-0168-4DF5-AC5A-A029964F0AB7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309A-3D7B-4188-94FB-F3DEEE00CF67}" type="datetime">
              <a:rPr b="0" lang="fr-FR" sz="1200" spc="-1" strike="noStrike">
                <a:solidFill>
                  <a:srgbClr val="ffffff"/>
                </a:solidFill>
                <a:latin typeface="Corbel"/>
              </a:rPr>
              <a:t>29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Corbel"/>
              </a:rPr>
              <a:t>Devillers &amp; Schuller - LIMSI-CNRS -  FlaRenet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951-5B58-4A35-B5A2-B24BC94DA487}" type="slidenum">
              <a:rPr b="0" lang="fr-B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309960" y="428760"/>
            <a:ext cx="835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al session “Emotion and Sentimen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ists of 20 minutes of discussion at the end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25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essions declined in various nuanc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tions (from speech), opinions and sentiments (from tex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979560" y="4103280"/>
            <a:ext cx="72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017 Opinion Mining and Emotions – Paolo Ros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021 Emotion, sentiment – Inma Hernaez Ri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025 Emotion, sentiment – Laurence Devil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2940480" y="600084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rsday, May 20 – LREC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1143000" y="35856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summary of the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357120" y="1012320"/>
            <a:ext cx="8786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8 papers on opinion/sentiment/persuasive power analyses using lexical/semantic informa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Resourc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 or transcription of speeches (news, tweets, political discourses, movies, product reviews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-&gt; Huge number of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nnotation schem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exical level/word sense level anno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ment /opinion classifier (yes/no, polarity)-&gt; No combination with speech or other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 papers on emotion analyses using mainly prosodic cues but also sometimes lexical conte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Resource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ted data, induced data, real-life H-M – H-H dialo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&gt; Generally small corpora (few speakers)/large in call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nnotation schem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motion labels, dimensions (valence/arousal/dominance), complex emotions (mixtures), emotional dialog strategies (affective links in intera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tion detection (2, 4 – 10 classes) – Speaker in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729720" y="287280"/>
            <a:ext cx="75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nks between emotion, sentiment and opi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57120" y="1317240"/>
            <a:ext cx="8786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ds can be ambiguous without an emotional contex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am afraid in the dark” -&gt; emo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am afraid to not understand what you have said” -&gt; polit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ment and opinion analysis combined with emotion detection is very useful in conversation analysis to detect for example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tisfaction of the customers (Voxfactory project (LIMSI)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bability of the task being completed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TcHCRaf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 workbench for intelligent exploration of human-computer conversation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&gt; we need to share multi-level annotated resources with emotion, sentiment and opinion annotations for dia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7975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rsday, May 20 – LREC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71280" y="0"/>
            <a:ext cx="9072720" cy="88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-Discussion on the best practices for improving researches on emotion, sentiment and opi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R:  Share the annotations schemes and annota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reate open-source tools/libraries: praat, openEAR, lexical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ild further benchmarks and evaluations: larger databases, real-life emotional data, challenge including emotion, sentiment and opinion for dialog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w approaches for using L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Combine cues (lexical,  semantic, acoustic/prosodic)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ind measures for qualifying and compared resources (stat &amp; meta-data), Combine resources, Find mappings between anno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llect multilingual and multicultural data, multi-party interaction, social inte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428760" y="357120"/>
            <a:ext cx="84294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REC 2010 workshop on Corpora for research on Emotion and Affect (Sunda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llows previous WS at LREC 2006 and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particular emphasis on showing how databases can be or have been used for system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&gt; rich ann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vil</dc:creator>
  <dc:description/>
  <dc:language>en-US</dc:language>
  <cp:lastModifiedBy>devil</cp:lastModifiedBy>
  <dcterms:modified xsi:type="dcterms:W3CDTF">2010-05-20T11:10:42Z</dcterms:modified>
  <cp:revision>339</cp:revision>
  <dc:subject/>
  <dc:title>Coding Emotional Events in Audiovisual Corpora</dc:title>
</cp:coreProperties>
</file>